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328-7E2B-4D24-9343-56F8CC1A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677B-D042-4B23-A779-2A996EE1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1DE-80A0-4D6F-A7D4-B51D744B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3B7-D493-4CEA-AE45-0C9AEB32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326-6A40-4990-80A4-E17042CF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5D3E-6644-498C-97BA-9BB4F1E3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B63-B26D-439A-9D98-01E5E64E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DD6-1700-4E54-A7F2-13C7319C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F6B-F977-40CA-9CD3-885BAFC8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876-5464-4B78-BACC-B0B10A85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E72-0DF9-4CC4-B637-089C48BF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E87-33EC-4CE8-83AA-A2C22E96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0813-033D-4E53-AEC5-24AA68363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3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057400"/>
            <a:ext cx="4038840" cy="104040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Определение: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 металл </a:t>
            </a:r>
            <a:r>
              <a:rPr b="1" i="1" lang="ru-RU" sz="2000" spc="-1" strike="noStrike">
                <a:solidFill>
                  <a:srgbClr val="008000"/>
                </a:solidFill>
                <a:latin typeface="Symbol"/>
                <a:ea typeface="Symbol"/>
              </a:rPr>
              <a:t>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изолятор </a:t>
            </a:r>
            <a:r>
              <a:rPr b="1" i="1" lang="ru-RU" sz="2000" spc="-1" strike="noStrike">
                <a:solidFill>
                  <a:srgbClr val="008000"/>
                </a:solidFill>
                <a:latin typeface="Symbol"/>
                <a:ea typeface="Symbol"/>
              </a:rPr>
              <a:t>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Symbol"/>
                <a:ea typeface="Symbol"/>
              </a:rPr>
              <a:t>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0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243828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2096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Имеет смысл только при T =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91120"/>
            <a:ext cx="0" cy="1676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276360" y="5867280"/>
            <a:ext cx="2971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57913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9436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Изоля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5943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М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е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тал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3505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Изолированная точка на фазовой диаграмм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257800" y="4267080"/>
            <a:ext cx="1447920" cy="1295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76212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Переход металл-изоля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189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Ита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836640"/>
            <a:ext cx="7925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1D </a:t>
            </a:r>
            <a:r>
              <a:rPr b="0" lang="en-US" sz="3600" spc="-1" strike="noStrike">
                <a:solidFill>
                  <a:srgbClr val="0000cc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перехода нет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(при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Т =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  электроны </a:t>
            </a:r>
            <a:br>
              <a:rPr sz="2800"/>
            </a:b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 локализованы  при  сколь  угодно  малом</a:t>
            </a:r>
            <a:br>
              <a:rPr sz="2800"/>
            </a:b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беспорядк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27664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3D </a:t>
            </a:r>
            <a:r>
              <a:rPr b="0" lang="en-US" sz="3600" spc="-1" strike="noStrike">
                <a:solidFill>
                  <a:srgbClr val="0000cc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переход есть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(но остаются неясности,</a:t>
            </a:r>
            <a:br>
              <a:rPr sz="2800"/>
            </a:b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какого  он рода,  первого  или  второго, и </a:t>
            </a:r>
            <a:br>
              <a:rPr sz="2800"/>
            </a:b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почему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645000"/>
            <a:ext cx="7920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2D </a:t>
            </a:r>
            <a:r>
              <a:rPr b="0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</a:t>
            </a: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cc0000"/>
                </a:solidFill>
                <a:latin typeface="Times New Roman"/>
              </a:rPr>
              <a:t>неясно, есть ли переход вообще</a:t>
            </a:r>
            <a:br>
              <a:rPr sz="3600"/>
            </a:b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т.е. могут ли электроны быть в</a:t>
            </a:r>
            <a:br>
              <a:rPr sz="2800"/>
            </a:b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            делокализованном состояни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537372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Имеются в виду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 невзаимодействующие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электроны 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при Т =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, 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в нулевом магнитном пол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в системе достаточно 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большого разм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429000" y="762120"/>
          <a:ext cx="5508720" cy="148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762120"/>
                    <a:ext cx="550872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19520" y="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Переход Андерс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920" y="1143000"/>
                <a:ext cx="59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ε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914400" y="990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99072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N/W  при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&lt; W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0       при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&gt; W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-384120" y="2540160"/>
                <a:ext cx="48099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e>
                    </m:nary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04920" y="22096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Интеграл перекры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2438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Ширина полосы 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, характеризующая беспоряд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7772400" y="2057040"/>
            <a:ext cx="533520" cy="6858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3581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Отношение J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- основной параметр задачи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3505320"/>
            <a:ext cx="58672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029200"/>
            <a:ext cx="640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772400" y="4648320"/>
                <a:ext cx="392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886200" y="5105520"/>
                <a:ext cx="934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W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i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 flipV="1">
            <a:off x="4267080" y="4876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5181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Металл</a:t>
            </a:r>
            <a:r>
              <a:rPr b="1" i="1" lang="en-US" sz="18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5181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Изоля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676520" y="4343400"/>
                <a:ext cx="10141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  <m:r>
                      <m:t xml:space="preserve">&lt;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W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i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410080" y="4343400"/>
                <a:ext cx="10144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W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i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57200" y="60199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При критическом значении параметра делокализованные состояния появляются в центре зо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828800" y="1447920"/>
          <a:ext cx="487692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47920"/>
                    <a:ext cx="4876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495680" y="990720"/>
            <a:ext cx="480060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Если невозмущенные  уровни одинаковы,   .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1800" spc="-1" strike="noStrike" baseline="-25000">
                <a:solidFill>
                  <a:srgbClr val="3333cc"/>
                </a:solidFill>
                <a:latin typeface="Times New Roman"/>
              </a:rPr>
              <a:t>01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= E</a:t>
            </a:r>
            <a:r>
              <a:rPr b="1" i="1" lang="en-US" sz="1800" spc="-1" strike="noStrike" baseline="-25000">
                <a:solidFill>
                  <a:srgbClr val="3333cc"/>
                </a:solidFill>
                <a:latin typeface="Times New Roman"/>
              </a:rPr>
              <a:t>02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1800" spc="-1" strike="noStrike" baseline="-25000">
                <a:solidFill>
                  <a:srgbClr val="3333cc"/>
                </a:solidFill>
                <a:latin typeface="Times New Roman"/>
              </a:rPr>
              <a:t>0 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,     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то сдвиги   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уровней 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порядка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010280" y="2819520"/>
                <a:ext cx="19814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J</m:t>
                    </m:r>
                    <m:r>
                      <m:t xml:space="preserve">∝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52280" y="990720"/>
            <a:ext cx="40388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Если невозмущенные  уровни разны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1800" spc="-1" strike="noStrike" baseline="-25000">
                <a:solidFill>
                  <a:srgbClr val="3333cc"/>
                </a:solidFill>
                <a:latin typeface="Times New Roman"/>
              </a:rPr>
              <a:t>01</a:t>
            </a:r>
            <a:r>
              <a:rPr b="1" lang="ru-RU" sz="1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1800" spc="-1" strike="noStrike" baseline="-25000">
                <a:solidFill>
                  <a:srgbClr val="3333cc"/>
                </a:solidFill>
                <a:latin typeface="Times New Roman"/>
              </a:rPr>
              <a:t>02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то сдвиг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уровней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порядка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920" y="3352680"/>
                <a:ext cx="28191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∝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04920" y="3048120"/>
                <a:ext cx="75564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486400" y="3505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(резонансные узл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343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араметр 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можно трактовать, как долю  резонансных  узл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257800"/>
            <a:ext cx="8229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В андерсоновском резонаторе плотность состояний на уровне Ферми </a:t>
            </a:r>
            <a:r>
              <a:rPr b="1" i="1" lang="ru-RU" sz="2200" spc="-1" strike="noStrike">
                <a:solidFill>
                  <a:srgbClr val="008000"/>
                </a:solidFill>
                <a:latin typeface="Times New Roman"/>
              </a:rPr>
              <a:t>не равна нулю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152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Переход Андерсо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долж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800600" y="838080"/>
          <a:ext cx="3962520" cy="28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838080"/>
                    <a:ext cx="396252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44792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Модель структурного беспоря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52320" y="914400"/>
                <a:ext cx="2770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52280" y="1676520"/>
            <a:ext cx="358164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Беспорядок «спрятан»  во  множестве  векторов  </a:t>
            </a: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R</a:t>
            </a:r>
            <a:r>
              <a:rPr b="1" lang="en-US" sz="2200" spc="-1" strike="noStrike" baseline="-25000">
                <a:solidFill>
                  <a:srgbClr val="008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36576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Способ расчета спектра (И.М. Лифшиц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685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Times New Roman"/>
              </a:rPr>
              <a:t>Пары резонансных узл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1219320"/>
            <a:ext cx="76320" cy="3808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1143000"/>
            <a:ext cx="533520" cy="22860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4495680"/>
          <a:ext cx="7543800" cy="20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495680"/>
                    <a:ext cx="754380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33520" y="2590920"/>
            <a:ext cx="3657600" cy="152280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Квантовомеханичекий механизм образования примесной зо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лавные электрические поля отсутствуют (в отличие от модели Андерсон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191120" y="2666520"/>
            <a:ext cx="380880" cy="2286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4114800"/>
            <a:ext cx="1522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105520" y="3352680"/>
          <a:ext cx="2906640" cy="26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352680"/>
                    <a:ext cx="290664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819520" y="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ереход Мот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5335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Три  параметра  размерности  дл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914400" y="1066680"/>
                <a:ext cx="5256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733920" y="914400"/>
                <a:ext cx="12380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κ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354720" y="838080"/>
                <a:ext cx="21877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/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κ</m:t>
                                </m:r>
                                <m:sSup>
                                  <m:e>
                                    <m:r>
                                      <m:t xml:space="preserve">ℏ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52280" y="16002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Times New Roman"/>
              </a:rPr>
              <a:t>Среднее расстояние между электрон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18288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Times New Roman"/>
              </a:rPr>
              <a:t>Боровский радиу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1828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Times New Roman"/>
              </a:rPr>
              <a:t>Радиус экран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286000"/>
            <a:ext cx="4876920" cy="84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связаны между собой соотношен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486400" y="2286000"/>
                <a:ext cx="25034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90720" y="3352680"/>
            <a:ext cx="2971800" cy="2014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&gt; 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изоля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&lt; 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  метал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Условие перех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= 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28800" y="5791320"/>
                <a:ext cx="15224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562720" y="60199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Times New Roman"/>
              </a:rPr>
              <a:t>Модель Хаббар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029200" y="838080"/>
          <a:ext cx="33400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838080"/>
                    <a:ext cx="33400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5473800" y="57913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.P. Edwards, M. J. Sienk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hys.Rev. B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17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, 2575 (197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152280"/>
            <a:ext cx="640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990099"/>
                </a:solidFill>
                <a:latin typeface="Times New Roman"/>
              </a:rPr>
              <a:t>Переход </a:t>
            </a:r>
            <a:r>
              <a:rPr b="1" i="1" lang="ru-RU" sz="2600" spc="-1" strike="noStrike">
                <a:solidFill>
                  <a:srgbClr val="990099"/>
                </a:solidFill>
                <a:latin typeface="Times New Roman"/>
              </a:rPr>
              <a:t>Мотта</a:t>
            </a:r>
            <a:r>
              <a:rPr b="0" i="1" lang="ru-RU" sz="2600" spc="-1" strike="noStrike">
                <a:solidFill>
                  <a:srgbClr val="990099"/>
                </a:solidFill>
                <a:latin typeface="Times New Roman"/>
              </a:rPr>
              <a:t> или переход </a:t>
            </a:r>
            <a:r>
              <a:rPr b="1" i="1" lang="ru-RU" sz="2600" spc="-1" strike="noStrike">
                <a:solidFill>
                  <a:srgbClr val="990099"/>
                </a:solidFill>
                <a:latin typeface="Times New Roman"/>
              </a:rPr>
              <a:t>Андерсона</a:t>
            </a:r>
            <a:r>
              <a:rPr b="0" i="1" lang="ru-RU" sz="2600" spc="-1" strike="noStrike">
                <a:solidFill>
                  <a:srgbClr val="990099"/>
                </a:solidFill>
                <a:latin typeface="Times New Roman"/>
              </a:rPr>
              <a:t> ?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066680"/>
          <a:ext cx="3255840" cy="472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066680"/>
                    <a:ext cx="32558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447920" y="990720"/>
          <a:ext cx="422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90720"/>
                    <a:ext cx="422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914400" y="3049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8000"/>
                </a:solidFill>
                <a:latin typeface="Times New Roman"/>
              </a:rPr>
              <a:t>Плоскость  «беспорядок </a:t>
            </a:r>
            <a:r>
              <a:rPr b="1" i="1" lang="ru-RU" sz="2200" spc="-1" strike="noStrike">
                <a:solidFill>
                  <a:srgbClr val="008000"/>
                </a:solidFill>
                <a:latin typeface="Symbol"/>
                <a:ea typeface="Symbol"/>
              </a:rPr>
              <a:t></a:t>
            </a:r>
            <a:r>
              <a:rPr b="1" i="1" lang="ru-RU" sz="2200" spc="-1" strike="noStrike">
                <a:solidFill>
                  <a:srgbClr val="008000"/>
                </a:solidFill>
                <a:latin typeface="Times New Roman"/>
              </a:rPr>
              <a:t> концентрация»  при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T =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200400"/>
            <a:ext cx="28195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Предполагается, что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723920" y="2819520"/>
            <a:ext cx="251460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548640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Times New Roman"/>
              </a:rPr>
              <a:t>Два источника локализации: беспорядок и межэлектронное взаимодействи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Times New Roman"/>
              </a:rPr>
              <a:t>так же , как у слабой локал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304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Минимальная металлическая проводим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71600" y="990720"/>
                <a:ext cx="10666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num>
                      <m:den>
                        <m:r>
                          <m:t xml:space="preserve">ℏ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724280" y="1066680"/>
                <a:ext cx="31226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819520" y="1447920"/>
            <a:ext cx="1523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8120" y="2286000"/>
          <a:ext cx="387036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7036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4692600" y="1600200"/>
          <a:ext cx="3751200" cy="39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2600" y="1600200"/>
                    <a:ext cx="375120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676520" y="5791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M. A. Paalanen, T.F. Rosenbaum, G.A. Thomas, R.N.Bhat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hys.Rev.Lett.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48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, 1284 (198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30080" y="1447920"/>
            <a:ext cx="2865600" cy="4038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838080" y="1371600"/>
            <a:ext cx="2919600" cy="4114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71600" y="3049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Экспериментальное доказательство того, что переход металл-изолятор </a:t>
            </a:r>
            <a:r>
              <a:rPr b="1" i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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 переход второго 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8:48:10Z</dcterms:created>
  <dc:creator>Gantmakher</dc:creator>
  <dc:description/>
  <dc:language>en-US</dc:language>
  <cp:lastModifiedBy>Gantmakher</cp:lastModifiedBy>
  <dcterms:modified xsi:type="dcterms:W3CDTF">2006-10-15T08:38:51Z</dcterms:modified>
  <cp:revision>25</cp:revision>
  <dc:subject/>
  <dc:title>Презентация PowerPoint</dc:title>
</cp:coreProperties>
</file>