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E90-CCA9-49F9-BBF2-7108084B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622-7324-4A24-ADB0-A1CB334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26F-95E7-4E9B-AFA8-592C8D75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570-2176-4536-9CD7-69859752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A5E-C233-41C9-ABA6-F09CE9F6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CAB-4DD5-489E-9AEA-2333FB5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013-229F-4A72-B8A7-401CF90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E56-1EEF-41E3-97C3-F6E146B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AF0-3E8B-480E-A29F-25E7920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184-D5F8-4E75-BEB9-2A982A7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840-D7AC-4C3C-B06D-F8F2627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FA2-1590-4594-B537-60B9577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DEA-803A-4B24-817A-C2387C69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1752480"/>
          <a:ext cx="635940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35940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47920" y="5335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Прыжковая провод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523880" y="1676520"/>
          <a:ext cx="632484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32484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и с переменной длиной;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Анализ температурных зависимостей (аппроксимация стандартными функция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чень важно и информативно, но очень опасно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6172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. Mansfield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S. Abboudy,  F. Foozoni,   Philos.Mag. B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57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777 (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5029200" y="914400"/>
          <a:ext cx="36273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14400"/>
                    <a:ext cx="36273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8800" y="914400"/>
          <a:ext cx="382752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800" y="914400"/>
                    <a:ext cx="38275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и с переменной длиной;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410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. Rentzsch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K.J. Friedland,  A.N. Ionov, et al.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phys. stat. solidi b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137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691 (19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5334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.N. Shafarman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D.W.Koon,  T.G. Castner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PRB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40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1216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828800" y="533520"/>
          <a:ext cx="5635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635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95280" y="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мена механизмов прыжковой проводи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715000" y="4119480"/>
          <a:ext cx="281952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9480"/>
                    <a:ext cx="281952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410080" y="762120"/>
          <a:ext cx="32529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762120"/>
                    <a:ext cx="32529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" y="990720"/>
          <a:ext cx="3733920" cy="33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990720"/>
                    <a:ext cx="373392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и с переменной длиной; эксперимен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Проблемы и трудности на пример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Si: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480" y="1294920"/>
            <a:ext cx="3810240" cy="3048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317320" y="3701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. Dai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Y. Zhang,  M.P. Sarachik,   PRL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69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1804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495680"/>
            <a:ext cx="2286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J.G. Massey, M. Lee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75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266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62320" y="990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Примеры локализованных состоя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Центрально-симметричная прямоугольная трехмерная потенциальная я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8954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Прямоугольная одномерная потенциальная я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шириной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и глуби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495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Притягивающий кулоновский потенциал (атом водоро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2133720"/>
            <a:ext cx="95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(r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2400" y="1981080"/>
            <a:ext cx="136440" cy="706680"/>
          </a:xfrm>
          <a:custGeom>
            <a:avLst/>
            <a:gdLst>
              <a:gd name="textAreaLeft" fmla="*/ 87120 w 136440"/>
              <a:gd name="textAreaRight" fmla="*/ 136800 w 136440"/>
              <a:gd name="textAreaTop" fmla="*/ 18360 h 706680"/>
              <a:gd name="textAreaBottom" fmla="*/ 688320 h 70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0040" y="190512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 &gt;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0040" y="2362320"/>
            <a:ext cx="178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 &lt;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05320" y="1981080"/>
                <a:ext cx="29718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ξ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352680" y="2057400"/>
            <a:ext cx="1800" cy="56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248520" y="457200"/>
                <a:ext cx="831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14400" y="5029200"/>
                <a:ext cx="72388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733920" y="5867280"/>
                <a:ext cx="1523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7391520" y="1905120"/>
          <a:ext cx="15922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1905120"/>
                    <a:ext cx="15922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Общее определ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438280" y="3733920"/>
                <a:ext cx="3009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ξ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8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imes New Roman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52680" y="228600"/>
                <a:ext cx="1743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ξ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4549680"/>
            <a:ext cx="1371600" cy="1295640"/>
          </a:xfrm>
          <a:prstGeom prst="ellipse">
            <a:avLst/>
          </a:prstGeom>
          <a:solidFill>
            <a:srgbClr val="99ff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52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Вероятность перехода (прыж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" y="1219320"/>
                <a:ext cx="87631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ℏ</m:t>
                    </m:r>
                    <m:r>
                      <m:rPr>
                        <m:lit/>
                        <m:nor/>
                      </m:rPr>
                      <m:t xml:space="preserve">q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q</m:t>
                    </m:r>
                    <m:r>
                      <m:t xml:space="preserve">∝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qr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19320" y="2286000"/>
                <a:ext cx="22096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52480" y="4648320"/>
                <a:ext cx="1143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 rot="20557800">
            <a:off x="3733920" y="2056320"/>
            <a:ext cx="2658960" cy="514440"/>
          </a:xfrm>
          <a:prstGeom prst="leftArrow">
            <a:avLst>
              <a:gd name="adj1" fmla="val 13352"/>
              <a:gd name="adj2" fmla="val 3457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6000800">
            <a:off x="7083720" y="2583360"/>
            <a:ext cx="1830240" cy="460440"/>
          </a:xfrm>
          <a:prstGeom prst="leftArrow">
            <a:avLst>
              <a:gd name="adj1" fmla="val 13333"/>
              <a:gd name="adj2" fmla="val 43357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1400" y="3878280"/>
            <a:ext cx="1265400" cy="13032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467480" y="3962520"/>
                <a:ext cx="1143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152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етка Абрахамса</a:t>
            </a:r>
            <a:r>
              <a:rPr b="0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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Ми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838080"/>
          <a:ext cx="4800600" cy="36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48006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3809880"/>
                <a:ext cx="2210040" cy="19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4920" y="838080"/>
          <a:ext cx="3373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3373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5867280"/>
            <a:ext cx="25909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.Fritzsche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M.Guev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PR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119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1238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овая проводимость через ближайших сосе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352680"/>
            <a:ext cx="11430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29200" y="914400"/>
          <a:ext cx="284940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14400"/>
                    <a:ext cx="2849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648320" y="426708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Температурно-зависящий множитель  у вероятности всех прыжков на ближайших соседей одина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48520" y="5715000"/>
                <a:ext cx="958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52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Сравнение с эксперимен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762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Перколяционный пор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24080" y="609480"/>
                <a:ext cx="20574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486400" y="762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8640" y="739800"/>
                <a:ext cx="1773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00320" y="1523880"/>
                <a:ext cx="2671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971800" y="1523880"/>
            <a:ext cx="3048120" cy="99072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4046400"/>
          <a:ext cx="533376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046400"/>
                    <a:ext cx="533376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85800" y="3200400"/>
            <a:ext cx="23623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.Fritzsche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M.Guev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PR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119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1238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200400"/>
            <a:ext cx="20574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. Ray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, H.F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PR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121,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768 (19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124080"/>
            <a:ext cx="2895840" cy="18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n-GaA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7   1.88   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n-InP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p-G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9   1.75  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p-Si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8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552360" y="1676520"/>
            <a:ext cx="1295640" cy="12189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11" stAng="10800000" swAng="5400000"/>
                <a:lnTo>
                  <a:pt x="16729" y="4949"/>
                </a:lnTo>
                <a:lnTo>
                  <a:pt x="16729" y="0"/>
                </a:lnTo>
                <a:lnTo>
                  <a:pt x="21600" y="6079"/>
                </a:lnTo>
                <a:lnTo>
                  <a:pt x="16729" y="12158"/>
                </a:lnTo>
                <a:lnTo>
                  <a:pt x="16729" y="7209"/>
                </a:lnTo>
                <a:lnTo>
                  <a:pt x="12427" y="7209"/>
                </a:lnTo>
                <a:arcTo wR="10167" hR="4951" stAng="16200000" swAng="-5400000"/>
                <a:lnTo>
                  <a:pt x="226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124080"/>
            <a:ext cx="3048120" cy="205740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04920" y="762120"/>
          <a:ext cx="28494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2849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и с переменной длиной; закон Мот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16400" y="609480"/>
                <a:ext cx="162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μ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410080" y="533520"/>
            <a:ext cx="33530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29360" y="1447920"/>
            <a:ext cx="231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10160" y="1905120"/>
            <a:ext cx="207180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10160" y="990720"/>
            <a:ext cx="207180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5080" y="1219320"/>
            <a:ext cx="193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3640" y="1600200"/>
            <a:ext cx="193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00640" y="1523880"/>
            <a:ext cx="123840" cy="128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990720"/>
            <a:ext cx="3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371600"/>
            <a:ext cx="3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15000" y="762120"/>
                <a:ext cx="533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μ</m:t>
                        </m:r>
                      </m:e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824520" y="762120"/>
            <a:ext cx="193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16800" y="2133720"/>
            <a:ext cx="193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057400"/>
            <a:ext cx="123840" cy="128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2767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743200"/>
            <a:ext cx="58672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Число состояний в </a:t>
            </a:r>
            <a:r>
              <a:rPr b="1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-окрестности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= g</a:t>
            </a:r>
            <a:r>
              <a:rPr b="1" lang="en-US" sz="22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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124080"/>
            <a:ext cx="70102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среднее расстояние мажду ними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ij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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[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</a:t>
            </a:r>
            <a:r>
              <a:rPr b="1" lang="en-US" sz="22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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, 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средняя разность энергий порядка  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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276720"/>
            <a:ext cx="1522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962520"/>
            <a:ext cx="6172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Параметр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u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ij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(под)сетки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Абрахамса-Миллера рав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43200" y="4419720"/>
                <a:ext cx="38862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b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H="1" flipV="1">
            <a:off x="3276000" y="1142280"/>
            <a:ext cx="990360" cy="1219320"/>
          </a:xfrm>
          <a:custGeom>
            <a:avLst/>
            <a:gdLst>
              <a:gd name="textAreaLeft" fmla="*/ -360 w 990360"/>
              <a:gd name="textAreaRight" fmla="*/ 990360 w 99036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54" stAng="10800000" swAng="5400000"/>
                <a:lnTo>
                  <a:pt x="17031" y="5006"/>
                </a:lnTo>
                <a:lnTo>
                  <a:pt x="17031" y="0"/>
                </a:lnTo>
                <a:lnTo>
                  <a:pt x="21600" y="6079"/>
                </a:lnTo>
                <a:lnTo>
                  <a:pt x="17031" y="12158"/>
                </a:lnTo>
                <a:lnTo>
                  <a:pt x="17031" y="7152"/>
                </a:lnTo>
                <a:lnTo>
                  <a:pt x="12427" y="7152"/>
                </a:lnTo>
                <a:arcTo wR="10281" hR="5008" stAng="16200000" swAng="-5400000"/>
                <a:lnTo>
                  <a:pt x="2146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143000"/>
            <a:ext cx="121932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257800"/>
            <a:ext cx="69339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еличина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u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ij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зависит от  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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достигает  минимума, к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337520" y="5156280"/>
                <a:ext cx="13809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57400" y="5692680"/>
                <a:ext cx="5105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μ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t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t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858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так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57200"/>
            <a:ext cx="8458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Средняя длина прыжка (среднее расстояние 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r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006600"/>
                </a:solidFill>
                <a:latin typeface="Times New Roman"/>
              </a:rPr>
              <a:t>ij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6600"/>
                </a:solidFill>
                <a:latin typeface="Times New Roman"/>
              </a:rPr>
              <a:t>min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</a:t>
            </a: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ежду узлами подсетки)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ра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609480"/>
            <a:ext cx="1522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362320" y="838080"/>
                <a:ext cx="3506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tt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362320" y="1219320"/>
            <a:ext cx="1522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75248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Сопротивление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ра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1752480"/>
                <a:ext cx="4068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tt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33520" y="274320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Для пленки </a:t>
            </a:r>
            <a:r>
              <a:rPr b="1" i="1" lang="ru-RU" sz="2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</a:rPr>
              <a:t>d=2)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 вычисления аналогич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90920" y="5715000"/>
                <a:ext cx="40924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tt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05120" y="3200400"/>
                <a:ext cx="544032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μ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33520" y="5181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и сопротивление ра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Закон Мотт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609480"/>
            <a:ext cx="1522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рыжки с переменной длиной; закон Шкловского</a:t>
            </a:r>
            <a:r>
              <a:rPr b="1" i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Эфр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При наличии кулоновской щели плотность состоя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914400"/>
                <a:ext cx="365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κ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57200" y="17524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а количество состояний в </a:t>
            </a:r>
            <a:r>
              <a:rPr b="1" i="1" lang="en-US" sz="2200" spc="-1" strike="noStrike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окрестности уровня Фер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2133720"/>
                <a:ext cx="1673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κε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33520" y="27432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Далее все стандарт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29000" y="5715000"/>
                <a:ext cx="42163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33520" y="5181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и сопротивление ра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65320" y="3224160"/>
                <a:ext cx="69199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κε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κ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κa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κ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1:52:10Z</dcterms:created>
  <dc:creator>Gantmakher</dc:creator>
  <dc:description/>
  <dc:language>en-US</dc:language>
  <cp:lastModifiedBy>Gantmakher</cp:lastModifiedBy>
  <dcterms:modified xsi:type="dcterms:W3CDTF">2006-10-15T08:07:40Z</dcterms:modified>
  <cp:revision>27</cp:revision>
  <dc:subject/>
  <dc:title>Прыжковая проводимость</dc:title>
</cp:coreProperties>
</file>