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1BB-8767-46B0-95B1-D08F0CB5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2E0-918E-466A-AEDD-D813D87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BDA-7FE2-40DF-AF25-160AE810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F15-7D68-4289-92FF-EEF0C71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036-E39F-4ECA-8E84-EA49BC7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A19-5061-4C75-AC1B-2A87FBE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A56-16AB-4827-9D6C-BD42E031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9DB-70F3-4D6A-B75F-D8C0183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8AD-18D4-40CE-8927-5F5A9DEE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516-8307-4954-9E12-EDEEE5D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3C9-5090-4FFB-9745-6E12B18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C7E-1723-40AE-BF50-AFE4C47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3DA9-5742-4E4A-A2B1-8F187A98D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716256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 </a:t>
            </a:r>
            <a:r>
              <a:rPr b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проводим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невзаимодействующих электр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984320" y="3124080"/>
                <a:ext cx="53276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/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ε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3" name=""/>
          <p:cNvGraphicFramePr/>
          <p:nvPr/>
        </p:nvGraphicFramePr>
        <p:xfrm>
          <a:off x="2590920" y="5562720"/>
          <a:ext cx="411480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562720"/>
                    <a:ext cx="41148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562720" y="533520"/>
            <a:ext cx="3352680" cy="99036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20360" y="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Микроволнов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7200" y="2514600"/>
                <a:ext cx="2666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+</m:t>
                    </m:r>
                    <m:r>
                      <m:t xml:space="preserve">U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5800" y="533520"/>
                <a:ext cx="2233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−</m:t>
                    </m:r>
                    <m:r>
                      <m:t xml:space="preserve">U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80880" y="2133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Уравнение Шрединг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Волнов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1066680"/>
            <a:ext cx="2819520" cy="76212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276720" y="2057040"/>
            <a:ext cx="2743200" cy="76212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480000" y="1695600"/>
                <a:ext cx="2075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09880" y="1447920"/>
                <a:ext cx="793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886200" y="2514600"/>
                <a:ext cx="1182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71500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467480" y="838080"/>
                <a:ext cx="1230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ωt</m:t>
                        </m:r>
                      </m:sup>
                    </m:sSup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6553080" cy="2914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3429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U.Кuhl, F.M.Izrailev, A.A.Krokhin, and  H.-J.Stöckmann, Appl. Phys. Lett .</a:t>
            </a:r>
            <a:r>
              <a:rPr b="1" i="1" lang="ru-RU" sz="2000" spc="-1" strike="noStrike">
                <a:solidFill>
                  <a:srgbClr val="0000cc"/>
                </a:solidFill>
                <a:latin typeface="Peterburg-Plain;TimesNewRoman;P"/>
              </a:rPr>
              <a:t>77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, 633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08120" y="3306600"/>
                <a:ext cx="668340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bar>
                      </m:e>
                    </m:rad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mμ</m:t>
                    </m:r>
                    <m:r>
                      <m:t xml:space="preserve">)</m:t>
                    </m:r>
                    <m:r>
                      <m:t xml:space="preserve">d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90720" y="4952880"/>
            <a:ext cx="617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m+n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 случайные  числа  из  интервала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[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1, +1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00200" y="4191120"/>
            <a:ext cx="11430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1905120"/>
            <a:ext cx="327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Функция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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определяет спектр пропу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562360" y="2743200"/>
            <a:ext cx="11430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02640" y="2544840"/>
            <a:ext cx="880560" cy="1158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1752480"/>
            <a:ext cx="4114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Коэффициенты 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обеспечивают корреляции между величинами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4572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Алгоритм построения модельного потенциала, обеспечивающего появление окон прозра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14600" y="1979640"/>
            <a:ext cx="4419720" cy="3114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28600" y="55627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U.Кuhl, F.M.Izrailev, A.A.Krokhin, and  H.-J.Stöckmann, Appl. Phys. Lett .</a:t>
            </a:r>
            <a:r>
              <a:rPr b="1" i="1" lang="ru-RU" sz="2000" spc="-1" strike="noStrike">
                <a:solidFill>
                  <a:srgbClr val="0000cc"/>
                </a:solidFill>
                <a:latin typeface="Peterburg-Plain;TimesNewRoman;P"/>
              </a:rPr>
              <a:t>77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, 633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02880" y="1352160"/>
            <a:ext cx="1950480" cy="1054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72040" y="1334520"/>
            <a:ext cx="693000" cy="24710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04920"/>
            <a:ext cx="22860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Компьютерный экспериме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N=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0492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Усредненный по пяти реализациям результат  реального микроволнового эксперимента,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N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0"/>
            <a:ext cx="3810240" cy="5205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альны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2000" y="1828800"/>
                <a:ext cx="4240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δ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ε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ε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380880" y="3429000"/>
          <a:ext cx="342900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29000"/>
                    <a:ext cx="34290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16200000">
            <a:off x="276480" y="10947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Times New Roman"/>
              </a:rPr>
              <a:t>резерву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914400"/>
          <a:ext cx="22860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914400"/>
                    <a:ext cx="22860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rot="16200000">
            <a:off x="2791080" y="10947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Times New Roman"/>
              </a:rPr>
              <a:t>резерву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38280" y="2743200"/>
                <a:ext cx="533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362320" y="2666880"/>
            <a:ext cx="6858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48120" y="2514600"/>
            <a:ext cx="60948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2332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Times New Roman"/>
              </a:rPr>
              <a:t>Число размерных подзон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4 </a:t>
            </a:r>
            <a:r>
              <a:rPr b="0" i="1" lang="ru-RU" sz="1800" spc="-1" strike="noStrike">
                <a:solidFill>
                  <a:srgbClr val="800080"/>
                </a:solidFill>
                <a:latin typeface="Times New Roman"/>
              </a:rPr>
              <a:t>Число каналов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2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</a:rPr>
              <a:t>i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3581280"/>
            <a:ext cx="17524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267080" y="3657600"/>
                <a:ext cx="1497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114800" y="5181480"/>
            <a:ext cx="4572000" cy="144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59436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B.J. van Wees,, L.P.Kouwenhoven et al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Phys.Rev. B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38</a:t>
            </a: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, 3625 (198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3341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етерострук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As –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-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6760" y="3429000"/>
            <a:ext cx="308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Не зависит от длины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Диссипация б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рассеяния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105520" y="733320"/>
          <a:ext cx="388620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733320"/>
                    <a:ext cx="38862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3176640"/>
            <a:ext cx="1752480" cy="87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34320" y="3733920"/>
            <a:ext cx="533160" cy="304560"/>
          </a:xfrm>
          <a:prstGeom prst="ellipse">
            <a:avLst/>
          </a:prstGeom>
          <a:noFill/>
          <a:ln w="19080">
            <a:solidFill>
              <a:srgbClr val="fbb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5040" y="152280"/>
            <a:ext cx="361944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1522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ауэ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914400"/>
          <a:ext cx="4800600" cy="201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48006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90720" y="3200400"/>
            <a:ext cx="5268960" cy="87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286000" cy="67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76720" y="4114800"/>
            <a:ext cx="1820880" cy="56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38680" y="914400"/>
            <a:ext cx="3124440" cy="12193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276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724280"/>
            <a:ext cx="4190760" cy="1905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848720" y="4038480"/>
                <a:ext cx="409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π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710480" y="3962520"/>
            <a:ext cx="68580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391520" y="3962520"/>
            <a:ext cx="31896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5000" y="914400"/>
                <a:ext cx="1295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162920" y="1271520"/>
                <a:ext cx="1523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00600" y="4724280"/>
                <a:ext cx="396252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705720" y="2209680"/>
                <a:ext cx="99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4000" y="5829480"/>
                <a:ext cx="309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5280" y="4838760"/>
                <a:ext cx="3816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δ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02280" y="528480"/>
            <a:ext cx="1536480" cy="39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41880" y="1062000"/>
            <a:ext cx="146052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1882800" cy="420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257720" y="2128680"/>
            <a:ext cx="1422360" cy="39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858000" y="914400"/>
            <a:ext cx="2133720" cy="98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graphicFrame>
        <p:nvGraphicFramePr>
          <p:cNvPr id="91" name=""/>
          <p:cNvGraphicFramePr/>
          <p:nvPr/>
        </p:nvGraphicFramePr>
        <p:xfrm>
          <a:off x="152280" y="609480"/>
          <a:ext cx="3429000" cy="170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609480"/>
                    <a:ext cx="3429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6960" y="50760"/>
            <a:ext cx="3425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Двухбарьерный де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304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шени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0948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6"/>
                </a:lnTo>
                <a:cubicBezTo>
                  <a:pt x="10800" y="9666"/>
                  <a:pt x="5400" y="10566"/>
                  <a:pt x="0" y="10566"/>
                </a:cubicBezTo>
                <a:cubicBezTo>
                  <a:pt x="5400" y="10566"/>
                  <a:pt x="10800" y="11466"/>
                  <a:pt x="10800" y="123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754520"/>
            <a:ext cx="88394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Если два барьера одинаковы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Monotype Corsiva"/>
              </a:rPr>
              <a:t>R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Monotype Corsiva"/>
              </a:rPr>
              <a:t>= R 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Monotype Corsiva"/>
              </a:rPr>
              <a:t>= R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т.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, то формула существенно упро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7560360" y="5696280"/>
            <a:ext cx="1429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952000" y="5912280"/>
            <a:ext cx="1429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5976000" y="5696280"/>
            <a:ext cx="142920" cy="7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3312360" y="5551920"/>
            <a:ext cx="1429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360440" y="5562720"/>
                <a:ext cx="58150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800600" y="2666880"/>
            <a:ext cx="1143000" cy="914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52880" y="2779560"/>
                <a:ext cx="912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802760" y="31734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зави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440" y="2514600"/>
            <a:ext cx="190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от расстоя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 импуль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05440" y="2819160"/>
            <a:ext cx="495360" cy="261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5440" y="3200400"/>
            <a:ext cx="495360" cy="195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30400" y="3809880"/>
                <a:ext cx="57927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8840" y="2286000"/>
                <a:ext cx="42274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5960" y="228600"/>
            <a:ext cx="528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Двухбарьерный дефект 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43828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можно сравнить с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191120"/>
            <a:ext cx="2438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 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ультатом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сре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124080"/>
            <a:ext cx="1828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ич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0666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Форму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199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Такое  усреднение  не  всегда  корректно,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но  в  дальнейшем  мы им  воспользуем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219320" y="5562360"/>
            <a:ext cx="45720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952880"/>
            <a:ext cx="609480" cy="609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200400"/>
            <a:ext cx="6858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600200"/>
            <a:ext cx="60984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43280" y="1407960"/>
                <a:ext cx="57927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38280" y="3048120"/>
                <a:ext cx="6204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82880" y="4876920"/>
                <a:ext cx="24274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43000" y="5065560"/>
                <a:ext cx="1066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87640" y="260280"/>
            <a:ext cx="3168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907920"/>
            <a:ext cx="878544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Цепочка из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лучай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расположе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лаб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ассеи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проволоке длиной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l N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реднее расстояние между рассеивателя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760" y="2873520"/>
            <a:ext cx="33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Вычисляем сопроти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920" y="32846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по реккурентной формуле  (по инду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05000" y="1374840"/>
            <a:ext cx="954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39337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Мы воспользовались формулой, полученной после усре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093920" y="4170240"/>
            <a:ext cx="6094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3440" y="42418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9360" y="1987560"/>
            <a:ext cx="136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11560" y="1987560"/>
            <a:ext cx="136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41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1413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11640" y="2637000"/>
                <a:ext cx="3686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156360" y="270828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14172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80360" y="2852640"/>
            <a:ext cx="28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492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8720" y="270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43000" y="3863880"/>
                <a:ext cx="21337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55640" y="5157720"/>
            <a:ext cx="748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Пока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 мало,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R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растут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линейно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~ 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Это – закон О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93680" y="37274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При больших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                                     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5760" y="4400640"/>
            <a:ext cx="6232320" cy="527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0040" y="4400640"/>
            <a:ext cx="609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627280" y="4941720"/>
            <a:ext cx="3276720" cy="39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08240" y="440064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28960" y="43768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6360" y="493380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115920"/>
            <a:ext cx="5184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3645000"/>
            <a:ext cx="2303640" cy="579600"/>
          </a:xfrm>
          <a:prstGeom prst="rect">
            <a:avLst/>
          </a:prstGeom>
          <a:solidFill>
            <a:srgbClr val="f8fad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R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 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780000" y="3789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859280" y="3789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95640" y="1197000"/>
            <a:ext cx="4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1052640"/>
                <a:ext cx="309744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f>
                          <m:num>
                            <m:r>
                              <m:t xml:space="preserve">ℏ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ℏ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l</m:t>
                                </m:r>
                              </m:e>
                            </m:ba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068720" y="1197000"/>
            <a:ext cx="216000" cy="1511280"/>
          </a:xfrm>
          <a:custGeom>
            <a:avLst/>
            <a:gdLst>
              <a:gd name="textAreaLeft" fmla="*/ 0 w 216000"/>
              <a:gd name="textAreaRight" fmla="*/ 7812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1628640"/>
            <a:ext cx="3457800" cy="520560"/>
          </a:xfrm>
          <a:prstGeom prst="rect">
            <a:avLst/>
          </a:prstGeom>
          <a:solidFill>
            <a:srgbClr val="f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Длина пробега</a:t>
            </a:r>
            <a:r>
              <a:rPr b="1" i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= l /</a:t>
            </a:r>
            <a:r>
              <a:rPr b="1" i="1" lang="en-US" sz="2800" spc="-1" strike="noStrike">
                <a:solidFill>
                  <a:srgbClr val="cc00cc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08720" y="1701720"/>
            <a:ext cx="233640" cy="1800"/>
          </a:xfrm>
          <a:prstGeom prst="line">
            <a:avLst/>
          </a:prstGeom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83640" y="2637000"/>
            <a:ext cx="1223640" cy="576000"/>
          </a:xfrm>
          <a:prstGeom prst="wedgeEllipseCallout">
            <a:avLst>
              <a:gd name="adj1" fmla="val -65953"/>
              <a:gd name="adj2" fmla="val 51652"/>
            </a:avLst>
          </a:prstGeom>
          <a:solidFill>
            <a:srgbClr val="a2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28720" y="2637000"/>
                <a:ext cx="93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20000" y="836640"/>
            <a:ext cx="1655640" cy="431640"/>
          </a:xfrm>
          <a:prstGeom prst="wedgeEllipseCallout">
            <a:avLst>
              <a:gd name="adj1" fmla="val -50768"/>
              <a:gd name="adj2" fmla="val 142277"/>
            </a:avLst>
          </a:prstGeom>
          <a:solidFill>
            <a:srgbClr val="d2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9079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2449440" cy="865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50840" y="4154400"/>
            <a:ext cx="3281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Другая форма за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71500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 |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692760" y="5791320"/>
                <a:ext cx="289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495760" y="5792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97680" y="57913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33520" y="5638680"/>
                <a:ext cx="332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ξ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86200" y="6248520"/>
            <a:ext cx="5105520" cy="764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В одноканальном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1D–</a:t>
            </a:r>
            <a:r>
              <a:rPr b="1" i="1" lang="ru-RU" sz="2000" spc="-1" strike="noStrike">
                <a:solidFill>
                  <a:srgbClr val="cc0066"/>
                </a:solidFill>
                <a:latin typeface="Times New Roman"/>
              </a:rPr>
              <a:t>проводнике  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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l 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781680" y="2917800"/>
                <a:ext cx="17528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1880" y="1828800"/>
          <a:ext cx="35132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828800"/>
                    <a:ext cx="35132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573880" y="609480"/>
          <a:ext cx="309240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3880" y="609480"/>
                    <a:ext cx="3092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517840" y="76320"/>
            <a:ext cx="39052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игантский шумовой сиг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791320"/>
            <a:ext cx="69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A.B.Fowler, A.Harstein, R.A.Webb,  Phys.Rev.Lett.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8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, 196 (19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762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Если образец не отогревать, то сигнал воспроизводится в мельчайших подроб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4267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Температурная зависимость проводимости при фиксированных напряжениях на затворе, т.е. в разных точках на шумовой кри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30080" y="152280"/>
            <a:ext cx="23342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оль корреля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838080"/>
            <a:ext cx="88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Рассеиватель из двух одинаковых барьеров на расстоянии (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= r</a:t>
            </a:r>
            <a:r>
              <a:rPr b="1" i="1" lang="en-US" sz="2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= r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 т. д.)</a:t>
            </a: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981080"/>
            <a:ext cx="8839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абсолютно прозрачен для волны с волновым вектором 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k = k</a:t>
            </a:r>
            <a:r>
              <a:rPr b="1" i="1" lang="en-US" sz="22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rg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r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l .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Если  заменить  случайно  расположенные  барьеры  на  сдвоенные,  то электрон с энергией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i="1" lang="en-US" sz="22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r>
              <a:rPr b="1" i="1" lang="en-US" sz="2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2m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 окажется делокализов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352680"/>
            <a:ext cx="868680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Димерная модель.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Одномерная цепочка периодически расположенных пар ям двух сортов (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и Е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6782040" cy="1187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280" y="5562720"/>
            <a:ext cx="7925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Если 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|E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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| &lt; 2J,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то делокализованным оказывается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7680" y="60958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505320" y="60958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J </a:t>
            </a:r>
            <a:r>
              <a:rPr b="1" i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интеграл перекр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0400" y="2819160"/>
            <a:ext cx="152280" cy="759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664360" y="1735560"/>
            <a:ext cx="142920" cy="7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023280" y="1376640"/>
            <a:ext cx="14292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96960" y="1241280"/>
                <a:ext cx="56469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2:16:57Z</dcterms:created>
  <dc:creator>Gantmakher</dc:creator>
  <dc:description/>
  <dc:language>en-US</dc:language>
  <cp:lastModifiedBy>Gantmakher</cp:lastModifiedBy>
  <dcterms:modified xsi:type="dcterms:W3CDTF">2006-10-16T08:28:04Z</dcterms:modified>
  <cp:revision>15</cp:revision>
  <dc:subject/>
  <dc:title>Слайд 1</dc:title>
</cp:coreProperties>
</file>