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FB1-23D5-4F74-93F2-DA07709A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600-0374-4E81-B638-81E0636D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9EA-8FCC-4C0D-9230-62E7233B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F4E-81A4-4525-912C-B9ABF6DC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3A4-1129-4B47-B5F4-973D4204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EBD-3747-4559-B261-D9B2D2ED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A85-2030-40BC-8239-A36BCE1B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6BD-D09A-4B5C-A4F5-D08D6CD3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024-BA73-4A87-A695-F1A9C73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4C3-B61B-4E99-8A48-52140BF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F5D-C1E4-45DE-8436-E6328F6B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8ED-EE78-44C8-82AC-695D41A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86B-A9AF-4108-91A2-40AD4CB2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1219320"/>
            <a:ext cx="3200400" cy="1828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Металлы с сильным рассея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429000" y="1295280"/>
                <a:ext cx="2133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r>
                          <m:t xml:space="preserve">ℏ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43000" y="3429000"/>
                <a:ext cx="990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133720" y="3429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принцип Иоффе-Реге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95880" y="3276720"/>
                <a:ext cx="1928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90720" y="4390920"/>
                <a:ext cx="23428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752480" y="5410080"/>
                <a:ext cx="14972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3048120" y="5562720"/>
            <a:ext cx="759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4956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132440" y="4952880"/>
                <a:ext cx="3620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962520" y="4800600"/>
            <a:ext cx="3962160" cy="762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8600" y="1219320"/>
                <a:ext cx="84582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dr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</m:e>
                        </m:nary>
                        <m:r>
                          <m:t xml:space="preserve">)</m:t>
                        </m:r>
                        <m:r>
                          <m:t xml:space="preserve">d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981080" y="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Транспорт в жидких металлах</a:t>
            </a:r>
            <a:br>
              <a:rPr sz="2800"/>
            </a:b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Теория Займана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952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Рассеивающий потенци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048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Матричный элемент пере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7200" y="3581280"/>
                <a:ext cx="7924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dr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</m:sup>
                        </m:sSup>
                      </m:e>
                    </m:nary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dr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7320" y="4589640"/>
                <a:ext cx="83451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≠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iq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09480" y="4343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Квадрат матричного эле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867280"/>
            <a:ext cx="8763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Сумму во внутренних скобках можно усреднить по всем возможным конфигурациям вокруг фиксированного атома в точке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Times New Roman"/>
              </a:rPr>
              <a:t>i0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,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т.е. по всем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Times New Roman"/>
              </a:rPr>
              <a:t>i0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57200"/>
            <a:ext cx="7086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Написав вместо суммы во внутренних скобках ее средн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и заменив суммирование п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0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 умножением 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олуч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086600" y="304920"/>
                <a:ext cx="10303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95280" y="1447920"/>
                <a:ext cx="61675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e>
                        </m:ba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3520" y="281952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Наконец, структурный фактор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(q)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можно вычислить, заменив в усредненной сумме суммирование интегрирова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52280" y="3657600"/>
                <a:ext cx="876312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qr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r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q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ϑ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dϑQ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πN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qr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qr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62120" y="5867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(r)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называется  парной  корреляционной  функци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590920"/>
            <a:ext cx="3429000" cy="3886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240" y="152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S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04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Вычисление провод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967200" y="609480"/>
                <a:ext cx="491184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∝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q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bar>
                          </m:e>
                        </m:nary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dϑ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∝</m:t>
                        </m:r>
                        <m:r>
                          <m:t xml:space="preserve">∝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952880" y="4267080"/>
            <a:ext cx="213372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Интегра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определяе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окрестность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верхнего предела благодаря множителю 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1" lang="en-US" sz="22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2285640"/>
            <a:ext cx="838080" cy="1981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705720" y="2514600"/>
          <a:ext cx="208116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5146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4920" y="2819520"/>
          <a:ext cx="10264680" cy="5551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819520"/>
                    <a:ext cx="10264680" cy="55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4920" y="457200"/>
          <a:ext cx="2743200" cy="18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57200"/>
                    <a:ext cx="27432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781680" y="990720"/>
            <a:ext cx="2057400" cy="2743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522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Правило Моой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914400"/>
          <a:ext cx="601956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60195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781680" y="1143000"/>
            <a:ext cx="2057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 коэффициент сопроти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934320" y="2743200"/>
                <a:ext cx="1828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914400" y="5791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J.H. Mooij,  physica status solidi (a)  17,  521 (197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Насыщение сопротивления </a:t>
            </a:r>
            <a:br>
              <a:rPr sz="2800"/>
            </a:br>
            <a:r>
              <a:rPr b="0" i="1" lang="en-US" sz="2000" spc="-1" strike="noStrike">
                <a:solidFill>
                  <a:srgbClr val="a50021"/>
                </a:solidFill>
                <a:latin typeface="Times New Roman"/>
              </a:rPr>
              <a:t>в материалах с сильным электрон-фононным взаимо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357200"/>
          <a:ext cx="3809880" cy="25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57200"/>
                    <a:ext cx="380988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066680" y="39625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Z. Fisk, G. Webb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PRL  36,  1084 (197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72200" y="1066680"/>
          <a:ext cx="25416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1066680"/>
                    <a:ext cx="2541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029200" y="426708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J.H. Mooij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physica status solidi (a)  17,  521 (197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29200"/>
            <a:ext cx="43434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Феноменологическая модель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шунтирующим сопротивлением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562720" y="5638680"/>
          <a:ext cx="2666880" cy="96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638680"/>
                    <a:ext cx="266688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66680" y="5992920"/>
                <a:ext cx="2133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152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сыщение сопротивлени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000" spc="-1" strike="noStrike">
                <a:solidFill>
                  <a:srgbClr val="a50021"/>
                </a:solidFill>
                <a:latin typeface="Times New Roman"/>
              </a:rPr>
              <a:t>(грубая, но очень наглядная модел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Обычно вероятность рассеяния электрона за врем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ра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426440" y="1143000"/>
                <a:ext cx="1260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d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вероятность того, что акт рассеяния произойдет в момент врем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ра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651040" y="1981080"/>
                <a:ext cx="2867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590920" y="2819520"/>
            <a:ext cx="61722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Предположим, что между двумя актами рассеяния должно пройти минимальное время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3733920"/>
            <a:ext cx="586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Усредним дрейфовую скорость, набранную электронами за время между столкновениям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87320" y="4524480"/>
                <a:ext cx="73407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tq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93960" y="5678640"/>
                <a:ext cx="12430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24280" y="5715000"/>
                <a:ext cx="2303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429000" y="6172200"/>
            <a:ext cx="10666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28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M. Gurvit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PRB  24,  7404 (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5715000"/>
            <a:ext cx="5867640" cy="9907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2133720"/>
          <a:ext cx="2543040" cy="23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254304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0" y="1905120"/>
          <a:ext cx="426708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26708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28600" y="1066680"/>
          <a:ext cx="4191120" cy="31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066680"/>
                    <a:ext cx="4191120" cy="31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90720" y="228600"/>
            <a:ext cx="7391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Анизотрия насыщения сопроти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533412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В.Ф.Гантмахер, Г.И.Кулеско, В.М.Теплинск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ЖЭТФ  90, 1421 (19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57200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В.Е. Зиновье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А.Л. Соко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П.В. Гельд и др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ФТТ  17,  3617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914400"/>
            <a:ext cx="426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Уменьшение концентраци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 приводит к большему значению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2895480"/>
            <a:ext cx="1371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sh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2000 </a:t>
            </a:r>
            <a:r>
              <a:rPr b="1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Ом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81280" y="1522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Выводы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61722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и планы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Что делать, чтобы добиться локализации ?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762120"/>
          <a:ext cx="52578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52578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705720" y="1905120"/>
            <a:ext cx="1828800" cy="3037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экспер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1.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Cu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1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Al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Sn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Pb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Ag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08:42:48Z</dcterms:created>
  <dc:creator>Gantmakher</dc:creator>
  <dc:description/>
  <dc:language>en-US</dc:language>
  <cp:lastModifiedBy>Gantmakher</cp:lastModifiedBy>
  <dcterms:modified xsi:type="dcterms:W3CDTF">2006-02-14T17:37:35Z</dcterms:modified>
  <cp:revision>6</cp:revision>
  <dc:subject/>
  <dc:title>Заголовок слайда отсутствует</dc:title>
</cp:coreProperties>
</file>