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0E2-2A54-4A8D-9451-CE9B9DB8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F93-3461-49B5-9388-50734034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59A-09D9-45A4-85D1-FE5D2033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C95-0E36-430E-B130-A05474BE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401-6539-42F4-845D-D57A0F4B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D33-A091-4408-8D62-6C7F36DB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9AE-65AC-4080-B8AC-82ADE802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0FE-7214-4174-A330-66C270BD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622-572C-4B0E-AAD7-702D3DC9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4A2-4ECF-43A9-B6C5-78E8D359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A35-43D3-4335-8EEC-F32D6C0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16D-B368-4B08-BAD7-F253912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8FF6-8059-48A9-9F28-2DFAB75FC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Структура примесной з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143000"/>
          <a:ext cx="5562720" cy="53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556272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90720" y="843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Зона проводим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641760"/>
            <a:ext cx="1371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Валентная з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14320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Уровень изолированного дон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9559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Уровень изолированного акцепт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533880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Электрические поля заряженных примесей смещают уровни примесей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952880" y="5643720"/>
            <a:ext cx="1371600" cy="380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300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cc00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224000"/>
            <a:ext cx="0" cy="609480"/>
          </a:xfrm>
          <a:prstGeom prst="line">
            <a:avLst/>
          </a:prstGeom>
          <a:ln w="28440">
            <a:solidFill>
              <a:srgbClr val="cc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038480" y="685800"/>
                <a:ext cx="48769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∝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ε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V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ε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dε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380880" y="609480"/>
          <a:ext cx="341784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341784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209680" y="0"/>
            <a:ext cx="495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Туннельные характерист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350532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Модуляционный метод </a:t>
            </a:r>
            <a:r>
              <a:rPr b="1" i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один из важнейших экспериментальных прием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62120" y="4610160"/>
                <a:ext cx="4114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62520" y="1981080"/>
            <a:ext cx="50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Если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onst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и температура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Т=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то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334120" y="2467080"/>
                <a:ext cx="2209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257800" y="4724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2620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915160" y="4572000"/>
                <a:ext cx="25574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∝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45720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Если температура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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и ступенька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f(x)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размывается, 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514600" y="5943600"/>
                <a:ext cx="431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∝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</m:e>
                    </m:nary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V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dε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00400" y="533520"/>
          <a:ext cx="28414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33520"/>
                    <a:ext cx="2841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562720" y="4267080"/>
          <a:ext cx="3352680" cy="25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267080"/>
                    <a:ext cx="335268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400800" y="457200"/>
          <a:ext cx="2241720" cy="28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457200"/>
                    <a:ext cx="22417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52280" y="533520"/>
          <a:ext cx="2457720" cy="32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533520"/>
                    <a:ext cx="24577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209680" y="0"/>
            <a:ext cx="495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Туннельные экспери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3505320"/>
            <a:ext cx="21337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. Hertel et al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50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743 (19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3962520"/>
            <a:ext cx="2743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.L. McMillan, J. Moch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46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56 (19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5943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V.Yu. Butko, J.F. DiTisa, P.V. Adams, PR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84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543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61000" y="3352680"/>
            <a:ext cx="23544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J.G. Massey, M. L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77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399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19520" y="4876920"/>
            <a:ext cx="3886200" cy="60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3886200"/>
            <a:ext cx="1676160" cy="60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0"/>
            <a:ext cx="495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Экскурс в теорию вероят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Частицы случайно расположены в пространстве с концентрацией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Пусть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f(v)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ероятность того, что в объеме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v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нет части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828800" y="2057400"/>
                <a:ext cx="541008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Δv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r>
                              <m:t xml:space="preserve">Δv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82520" y="3463920"/>
            <a:ext cx="60984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0"/>
            <a:ext cx="7925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Слабая компенсация:  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 &gt;&gt;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a 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,    K= N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a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 / N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d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 &lt;&lt; 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762120"/>
          <a:ext cx="769608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6960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3520" y="2362320"/>
                <a:ext cx="1523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κr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819520" y="2362320"/>
                <a:ext cx="230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κ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κr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19920" y="2362320"/>
                <a:ext cx="2579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κ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κr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50532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18080" y="3470400"/>
            <a:ext cx="54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3429000"/>
            <a:ext cx="9907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18480" y="34704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25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105520"/>
            <a:ext cx="2438640" cy="5796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=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4038480"/>
            <a:ext cx="358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Times New Roman"/>
              </a:rPr>
              <a:t>Конфигурации  </a:t>
            </a:r>
            <a:r>
              <a:rPr b="1" i="1" lang="en-US" sz="2200" spc="-1" strike="noStrike">
                <a:solidFill>
                  <a:srgbClr val="ff0066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</a:rPr>
              <a:t>невозмож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Уравнение для определения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48320" y="5715000"/>
            <a:ext cx="1676160" cy="457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00800" y="4800600"/>
            <a:ext cx="13716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4724280"/>
            <a:ext cx="11430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1295280"/>
          <a:ext cx="632484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32484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flipH="1">
            <a:off x="304920" y="3276720"/>
            <a:ext cx="1218960" cy="0"/>
          </a:xfrm>
          <a:prstGeom prst="line">
            <a:avLst/>
          </a:prstGeom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04920" y="380880"/>
            <a:ext cx="2743200" cy="0"/>
          </a:xfrm>
          <a:prstGeom prst="line">
            <a:avLst/>
          </a:prstGeom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66680" y="1447920"/>
            <a:ext cx="0" cy="1828800"/>
          </a:xfrm>
          <a:prstGeom prst="line">
            <a:avLst/>
          </a:prstGeom>
          <a:ln w="19080">
            <a:solidFill>
              <a:srgbClr val="cc00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80880"/>
            <a:ext cx="0" cy="609840"/>
          </a:xfrm>
          <a:prstGeom prst="line">
            <a:avLst/>
          </a:prstGeom>
          <a:ln w="19080">
            <a:solidFill>
              <a:srgbClr val="cc00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066680" y="990360"/>
            <a:ext cx="0" cy="53316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371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cc00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762120"/>
            <a:ext cx="36576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15228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990000"/>
                </a:solidFill>
                <a:uFillTx/>
                <a:latin typeface="Times New Roman"/>
              </a:rPr>
              <a:t>Плотность состояний в примесной зо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715000"/>
            <a:ext cx="33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Слабая компенс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48120" y="2133720"/>
            <a:ext cx="2438280" cy="45720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90512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1828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~ 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343040" y="3048120"/>
            <a:ext cx="10666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289548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8195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~ 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8229600" cy="228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990000"/>
                </a:solidFill>
                <a:uFillTx/>
                <a:latin typeface="Times New Roman"/>
              </a:rPr>
              <a:t>Составление уравнения для</a:t>
            </a: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3520" y="838080"/>
                <a:ext cx="4267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κ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181480" y="914400"/>
            <a:ext cx="38102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ероятность того, что в сфере радиусо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округ акцептора  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ни  одного дон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" y="2362320"/>
                <a:ext cx="8001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d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Θ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Θ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5800" y="3657600"/>
                <a:ext cx="12952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057400" y="34290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4290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 при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 при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86400" y="3429000"/>
                <a:ext cx="26668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κ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κ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838080" y="4952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Численное 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3560" y="5486400"/>
                <a:ext cx="7870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μ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κ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H="1" rot="156600">
            <a:off x="1675800" y="1676160"/>
            <a:ext cx="5257800" cy="533160"/>
          </a:xfrm>
          <a:custGeom>
            <a:avLst/>
            <a:gdLst>
              <a:gd name="textAreaLeft" fmla="*/ 1051200 w 5257800"/>
              <a:gd name="textAreaRight" fmla="*/ 3418920 w 52578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38" hR="21600" stAng="10800000" swAng="-5400000"/>
                <a:lnTo>
                  <a:pt x="9727" y="21600"/>
                </a:lnTo>
                <a:arcTo wR="8638" hR="21600" stAng="5400000" swAng="-3087377"/>
                <a:lnTo>
                  <a:pt x="21192" y="6557"/>
                </a:lnTo>
                <a:lnTo>
                  <a:pt x="17821" y="0"/>
                </a:lnTo>
                <a:lnTo>
                  <a:pt x="13633" y="6557"/>
                </a:lnTo>
                <a:lnTo>
                  <a:pt x="16868" y="6557"/>
                </a:lnTo>
                <a:arcTo wR="8638" hR="21600" stAng="2312623" swAng="3000563"/>
                <a:lnTo>
                  <a:pt x="9183" y="21557"/>
                </a:lnTo>
                <a:arcTo wR="8638" hR="21600" stAng="5486814" swAng="5313186"/>
                <a:close/>
              </a:path>
              <a:path fill="darkenLess" w="21600" h="21600">
                <a:moveTo>
                  <a:pt x="0" y="0"/>
                </a:moveTo>
                <a:arcTo wR="8638" hR="21600" stAng="10800000" swAng="-5400000"/>
                <a:lnTo>
                  <a:pt x="9727" y="21600"/>
                </a:lnTo>
                <a:arcTo wR="8638" hR="21600" stAng="5400000" swAng="86814"/>
                <a:lnTo>
                  <a:pt x="9183" y="21557"/>
                </a:lnTo>
                <a:arcTo wR="8638" hR="21600" stAng="5486814" swAng="531318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0"/>
            <a:ext cx="79250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Сильная компенсация:  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cc"/>
                </a:solidFill>
                <a:latin typeface="Symbol"/>
                <a:ea typeface="Symbol"/>
              </a:rPr>
              <a:t></a:t>
            </a: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a  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,   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990099"/>
                </a:solidFill>
                <a:latin typeface="Symbol"/>
                <a:ea typeface="Symbol"/>
              </a:rPr>
              <a:t>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 K</a:t>
            </a:r>
            <a:r>
              <a:rPr b="1" lang="ru-RU" sz="2400" spc="-1" strike="noStrike">
                <a:solidFill>
                  <a:srgbClr val="cc00cc"/>
                </a:solidFill>
                <a:latin typeface="Symbol"/>
                <a:ea typeface="Symbol"/>
              </a:rPr>
              <a:t>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990099"/>
                </a:solidFill>
                <a:latin typeface="Symbol"/>
                <a:ea typeface="Symbol"/>
              </a:rPr>
              <a:t>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a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 / N</a:t>
            </a:r>
            <a:r>
              <a:rPr b="1" i="1" lang="en-US" sz="2200" spc="-1" strike="noStrike" baseline="-25000">
                <a:solidFill>
                  <a:srgbClr val="990099"/>
                </a:solidFill>
                <a:latin typeface="Times New Roman"/>
              </a:rPr>
              <a:t>d</a:t>
            </a: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 &lt;&lt; 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85800"/>
            <a:ext cx="8458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ероятность того, что данный донор входит в пару 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‘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донор-донор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  размером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33920" y="990720"/>
                <a:ext cx="205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04920" y="1447920"/>
            <a:ext cx="601956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 пару  с  энергией  связи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он входит с вероят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81280" y="1752480"/>
                <a:ext cx="24955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dε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80880" y="3886200"/>
            <a:ext cx="39625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то  плотность  состояний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17600" y="2819520"/>
                <a:ext cx="2668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κε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κ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200400" y="3124080"/>
            <a:ext cx="213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и, по определению,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38880" y="2819520"/>
                <a:ext cx="34146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κ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κε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505320" y="4191120"/>
                <a:ext cx="34970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7200" y="5181480"/>
            <a:ext cx="754380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Уровень Ферми определяется из интегрального соотношения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8800" y="5562720"/>
                <a:ext cx="57848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μ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dε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   </m:t>
                    </m:r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57200" y="2362320"/>
            <a:ext cx="2133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Поскольку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400800" y="4800600"/>
            <a:ext cx="13716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724280"/>
            <a:ext cx="11430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1295280"/>
          <a:ext cx="632484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32484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>
            <a:off x="304920" y="3276720"/>
            <a:ext cx="1218960" cy="0"/>
          </a:xfrm>
          <a:prstGeom prst="line">
            <a:avLst/>
          </a:prstGeom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4920" y="380880"/>
            <a:ext cx="2743200" cy="0"/>
          </a:xfrm>
          <a:prstGeom prst="line">
            <a:avLst/>
          </a:prstGeom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66680" y="1447920"/>
            <a:ext cx="0" cy="1828800"/>
          </a:xfrm>
          <a:prstGeom prst="line">
            <a:avLst/>
          </a:prstGeom>
          <a:ln w="19080">
            <a:solidFill>
              <a:srgbClr val="cc00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80880"/>
            <a:ext cx="0" cy="609840"/>
          </a:xfrm>
          <a:prstGeom prst="line">
            <a:avLst/>
          </a:prstGeom>
          <a:ln w="19080">
            <a:solidFill>
              <a:srgbClr val="cc00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66680" y="990360"/>
            <a:ext cx="0" cy="53316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371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cc00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15228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990000"/>
                </a:solidFill>
                <a:uFillTx/>
                <a:latin typeface="Times New Roman"/>
              </a:rPr>
              <a:t>Плотность состояний в примесной зо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7150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Слабая компенс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5715000"/>
            <a:ext cx="297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Сильная компенс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943600" y="3809880"/>
            <a:ext cx="1371600" cy="68580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458200" y="350532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429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34290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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81680" y="5867280"/>
            <a:ext cx="2122560" cy="71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4440" y="3006720"/>
            <a:ext cx="457200" cy="3808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4495680"/>
            <a:ext cx="2122560" cy="71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85800"/>
            <a:ext cx="3733920" cy="1905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248160" y="2286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97760" y="2209680"/>
            <a:ext cx="288720" cy="26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Кулоновская щел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920" y="76320"/>
          <a:ext cx="22381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320"/>
                    <a:ext cx="223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608800" y="1447920"/>
            <a:ext cx="2833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1905120"/>
            <a:ext cx="253836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990720"/>
            <a:ext cx="253836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12240" y="1219320"/>
            <a:ext cx="236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30800" y="1600200"/>
            <a:ext cx="236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420080" y="1427400"/>
            <a:ext cx="4114080" cy="1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cc00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248520" y="1752120"/>
            <a:ext cx="0" cy="6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229600" y="1294920"/>
            <a:ext cx="0" cy="11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2057400"/>
            <a:ext cx="43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990720"/>
            <a:ext cx="3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371600"/>
            <a:ext cx="3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57800" y="762120"/>
                <a:ext cx="533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μ</m:t>
                        </m:r>
                      </m:e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2" name="ib6a" descr=""/>
          <p:cNvPicPr/>
          <p:nvPr/>
        </p:nvPicPr>
        <p:blipFill>
          <a:blip r:embed="rId3"/>
          <a:stretch/>
        </p:blipFill>
        <p:spPr>
          <a:xfrm>
            <a:off x="519120" y="76320"/>
            <a:ext cx="188748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24240" y="76320"/>
            <a:ext cx="144360" cy="22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743200"/>
            <a:ext cx="358128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Энергия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      должна бы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больше, чем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172200" y="2637000"/>
                <a:ext cx="990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κ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8534520" y="29718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029200" y="3429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κ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  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κ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7010280" y="3733920"/>
            <a:ext cx="3812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029200" y="4495680"/>
                <a:ext cx="37846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b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κε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∝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28600" y="29718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8840" y="263520"/>
            <a:ext cx="392400" cy="3808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1932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685800"/>
            <a:ext cx="380880" cy="3808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5440" y="5900760"/>
                <a:ext cx="37162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κ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838080" y="2819520"/>
          <a:ext cx="307188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2819520"/>
                    <a:ext cx="3071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648320" y="4191120"/>
            <a:ext cx="4343400" cy="11430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29200" y="5867280"/>
                <a:ext cx="3735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κε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∝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648320" y="5562720"/>
            <a:ext cx="4343400" cy="11430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352680" y="5029200"/>
                <a:ext cx="343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752480" y="50292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952560" y="533520"/>
          <a:ext cx="34272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533520"/>
                    <a:ext cx="3427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267080" y="4473720"/>
          <a:ext cx="4724640" cy="22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473720"/>
                    <a:ext cx="472464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209680" y="0"/>
            <a:ext cx="495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Кулоновская щель (продолжение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990720"/>
            <a:ext cx="396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Энергия занятых состояний понизилас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энергия сводных состояний повысила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4952880"/>
            <a:ext cx="37335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L. Efros, N.V. Lien, B.I. Shklovski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J. Phys. C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2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023 (19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4495680"/>
            <a:ext cx="7617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495680"/>
            <a:ext cx="76212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371600" y="3276720"/>
          <a:ext cx="632448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276720"/>
                    <a:ext cx="632448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362320" y="0"/>
            <a:ext cx="426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Переход Пайерлс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23880" y="1066680"/>
          <a:ext cx="617220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066680"/>
                    <a:ext cx="6172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419720" y="1600200"/>
            <a:ext cx="396216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местив  каждый второй ат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удвоим период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a      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220968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7:19:01Z</dcterms:created>
  <dc:creator>Gantmakher</dc:creator>
  <dc:description/>
  <dc:language>en-US</dc:language>
  <cp:lastModifiedBy>Gantmakher</cp:lastModifiedBy>
  <dcterms:modified xsi:type="dcterms:W3CDTF">2006-03-08T18:33:10Z</dcterms:modified>
  <cp:revision>29</cp:revision>
  <dc:subject/>
  <dc:title>Заголовок слайда отсутствует</dc:title>
</cp:coreProperties>
</file>