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295-1E44-4E6D-AC1D-476AA2AA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F7E-991F-439B-B697-22A44B99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A7B-2F61-408E-97F2-1CBD9C70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1A4-191B-4790-99CC-D02B0DC4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329-6BE7-4404-97D0-711E6449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585-C31A-4C12-A7C6-D10EBD7F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957-4FBE-469A-92F2-47454EB6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E9E-AA21-4982-88C4-CD703E9F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F35-C0AA-4235-BF49-7ED71790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9C8-BD33-4B53-878E-16EC4738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29C-14D0-4AD7-80C9-FF0F62E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81F-6D7B-4E4E-8786-90C9BC04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C3F-A554-4E32-A4BA-F74B31F11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Гр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ну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ли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ров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нн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ы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е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е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т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лл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4267080"/>
            <a:ext cx="49528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3021600">
            <a:off x="2908440" y="5777640"/>
            <a:ext cx="2779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510552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5257800"/>
            <a:ext cx="4572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4956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1814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4648320"/>
            <a:ext cx="45720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26708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42670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943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4419720"/>
            <a:ext cx="1295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502920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5257800"/>
            <a:ext cx="53316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434340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334120"/>
            <a:ext cx="45720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80060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56386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7242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2670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715000"/>
            <a:ext cx="2286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4876920"/>
            <a:ext cx="4572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57150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5334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49528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60958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43434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3021600">
            <a:off x="4724280" y="5714640"/>
            <a:ext cx="30456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0336200">
            <a:off x="3733200" y="4610160"/>
            <a:ext cx="1522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56200">
            <a:off x="5021280" y="4935600"/>
            <a:ext cx="2286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95560" y="762120"/>
            <a:ext cx="4952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3021600">
            <a:off x="2832840" y="2271960"/>
            <a:ext cx="27792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160020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1752480"/>
            <a:ext cx="457200" cy="838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9810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9907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1676520"/>
            <a:ext cx="45720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14300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7621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762120"/>
            <a:ext cx="45720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438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914400"/>
            <a:ext cx="1295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160020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1752480"/>
            <a:ext cx="53352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8380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82880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2952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2133720"/>
            <a:ext cx="45720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219320"/>
            <a:ext cx="45720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762120"/>
            <a:ext cx="45720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209680"/>
            <a:ext cx="2286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1371600"/>
            <a:ext cx="4572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7621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133720"/>
            <a:ext cx="15228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18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447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2590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838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021600">
            <a:off x="4647960" y="2209680"/>
            <a:ext cx="30492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8421600">
            <a:off x="5562360" y="1294920"/>
            <a:ext cx="1522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021600">
            <a:off x="4952880" y="1523520"/>
            <a:ext cx="1522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 rot="20817600">
            <a:off x="3504960" y="2208600"/>
            <a:ext cx="282600" cy="552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2235600">
            <a:off x="2896920" y="2047320"/>
            <a:ext cx="169920" cy="176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 rot="2237400">
            <a:off x="6240600" y="2079000"/>
            <a:ext cx="151920" cy="39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 rot="2243400">
            <a:off x="3124080" y="2133360"/>
            <a:ext cx="114480" cy="136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2255400">
            <a:off x="3124080" y="837720"/>
            <a:ext cx="96840" cy="114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2246400">
            <a:off x="3962160" y="1218240"/>
            <a:ext cx="16668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 rot="2237400">
            <a:off x="4800600" y="1294560"/>
            <a:ext cx="322200" cy="44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 rot="2237400">
            <a:off x="5409720" y="838080"/>
            <a:ext cx="17316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 rot="2237400">
            <a:off x="2416320" y="1186920"/>
            <a:ext cx="126720" cy="185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 rot="2254800">
            <a:off x="5867280" y="2514240"/>
            <a:ext cx="219240" cy="218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236800">
            <a:off x="6324120" y="1447920"/>
            <a:ext cx="452520" cy="31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2237400">
            <a:off x="4249440" y="2133720"/>
            <a:ext cx="322200" cy="44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 rot="2234400">
            <a:off x="3581280" y="1294560"/>
            <a:ext cx="231840" cy="109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 rot="2245800">
            <a:off x="6780600" y="1522800"/>
            <a:ext cx="20952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 rot="2237400">
            <a:off x="5019840" y="2243880"/>
            <a:ext cx="322200" cy="44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2246400">
            <a:off x="2133360" y="2590200"/>
            <a:ext cx="13464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 rot="2237400">
            <a:off x="3277080" y="2589840"/>
            <a:ext cx="110880" cy="1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 rot="2246400">
            <a:off x="5549760" y="1636200"/>
            <a:ext cx="324000" cy="442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 rot="2237400">
            <a:off x="2966760" y="1186200"/>
            <a:ext cx="135000" cy="193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2237400">
            <a:off x="4088880" y="1742040"/>
            <a:ext cx="220680" cy="326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242200">
            <a:off x="2408040" y="1303200"/>
            <a:ext cx="473040" cy="230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 rot="2265000">
            <a:off x="4571640" y="1142640"/>
            <a:ext cx="189000" cy="20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 rot="2265000">
            <a:off x="4495320" y="2590560"/>
            <a:ext cx="189000" cy="20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2254800">
            <a:off x="2098440" y="232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 rot="2265000">
            <a:off x="5257440" y="1371240"/>
            <a:ext cx="189000" cy="20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 rot="2247600">
            <a:off x="6422760" y="2521440"/>
            <a:ext cx="304920" cy="2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20817600">
            <a:off x="3591000" y="1529640"/>
            <a:ext cx="2872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 rot="15432000">
            <a:off x="6272280" y="1803240"/>
            <a:ext cx="149400" cy="198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 rot="20811600">
            <a:off x="3661920" y="1017720"/>
            <a:ext cx="122400" cy="199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15432000">
            <a:off x="6088320" y="1080000"/>
            <a:ext cx="228600" cy="19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506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5676840"/>
            <a:ext cx="22860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598176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598176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536200">
            <a:off x="2209320" y="598176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506736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483876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76244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 rot="2255400">
            <a:off x="3276360" y="990000"/>
            <a:ext cx="96840" cy="114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 rot="2255400">
            <a:off x="3657600" y="837720"/>
            <a:ext cx="96840" cy="114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 rot="2255400">
            <a:off x="4883040" y="1917360"/>
            <a:ext cx="179280" cy="34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171480" y="1905120"/>
            <a:ext cx="15228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3722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2234400">
            <a:off x="2209680" y="1676520"/>
            <a:ext cx="231840" cy="109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 rot="2234400">
            <a:off x="4572000" y="762120"/>
            <a:ext cx="231840" cy="109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 rot="62400">
            <a:off x="3962160" y="837720"/>
            <a:ext cx="2286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 rot="2255400">
            <a:off x="6857640" y="2590200"/>
            <a:ext cx="96840" cy="114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 rot="2255400">
            <a:off x="6933960" y="1904400"/>
            <a:ext cx="96840" cy="114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2590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04920" y="228600"/>
          <a:ext cx="302724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30272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733920" y="228600"/>
                <a:ext cx="51814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V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257800" y="1219320"/>
                <a:ext cx="2133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3581280" y="152280"/>
            <a:ext cx="5410440" cy="1676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205740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Функцию распределения по размерам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D(a) 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конечных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гранул 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на поверхности контакта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нормируем усло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477120" y="2666880"/>
                <a:ext cx="1752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228600" y="35053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В очень  маленькую гранулу туннелирование не произойд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79440" y="4191120"/>
            <a:ext cx="116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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03600" y="3878280"/>
            <a:ext cx="226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,     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| &lt; 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4419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 ,    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| &gt; 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3962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87692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00000"/>
                </a:solidFill>
                <a:latin typeface="Times New Roman"/>
              </a:rPr>
              <a:t>Ит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5181480"/>
            <a:ext cx="5562720" cy="914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752480" y="5105520"/>
                <a:ext cx="52578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228600" y="5410080"/>
            <a:ext cx="85345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P </a:t>
            </a:r>
            <a:r>
              <a:rPr b="1" i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 ча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поверхности, принадлежащая бесконечному металлическому кластер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914400" y="304920"/>
          <a:ext cx="6172200" cy="52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61722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10880" y="6172200"/>
            <a:ext cx="71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X.Yu, M.B.Duxbury, G.Jeffers, M.A.Dubson,  Phys.Rev. B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44</a:t>
            </a: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, 13163 (199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4560" y="5638680"/>
            <a:ext cx="567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In, </a:t>
            </a:r>
            <a:r>
              <a:rPr b="1" i="1" lang="ru-RU" sz="1800" spc="-1" strike="noStrike">
                <a:solidFill>
                  <a:srgbClr val="009900"/>
                </a:solidFill>
                <a:latin typeface="Times New Roman"/>
              </a:rPr>
              <a:t>напыленный на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 SiO</a:t>
            </a:r>
            <a:r>
              <a:rPr b="1" i="1" lang="en-US" sz="1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i="1" lang="ru-RU" sz="1800" spc="-1" strike="noStrike">
                <a:solidFill>
                  <a:srgbClr val="009900"/>
                </a:solidFill>
                <a:latin typeface="Times New Roman"/>
              </a:rPr>
              <a:t> при комнатной температу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91440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9907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1219320"/>
            <a:ext cx="16765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666880" y="1523880"/>
          <a:ext cx="548640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4864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990720" y="15228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Гранулированная пленка (кермет) состав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 + A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57680" y="9907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Металл – темные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59092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00"/>
                </a:solidFill>
                <a:latin typeface="Times New Roman"/>
              </a:rPr>
              <a:t>Перколяционный пу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00"/>
                </a:solidFill>
                <a:latin typeface="Times New Roman"/>
              </a:rPr>
              <a:t>(линия то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2590560"/>
            <a:ext cx="533160" cy="53316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12680" y="617220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B.Abeles et al.,  Advances in Physics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24</a:t>
            </a: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, 407 (19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057400" y="1752480"/>
          <a:ext cx="541008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41008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91440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Пленка гранулированног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в матрице аморфног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8380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еталл – светлые области, концентрация металла 66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5200" y="6248520"/>
            <a:ext cx="50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Y.Shapira, G.Deutcher,  Phys.Rev. B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27</a:t>
            </a: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, 4463 (19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09680" y="1795320"/>
          <a:ext cx="495324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95320"/>
                    <a:ext cx="495324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914400" y="152280"/>
            <a:ext cx="731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Зависимость сопротивления гранулированных пленок от концентрации металла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3040" y="6248520"/>
            <a:ext cx="50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B. Abeles et al.,  Advances in Physics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24</a:t>
            </a: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, 407 (19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0666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600"/>
                </a:solidFill>
                <a:latin typeface="Times New Roman"/>
              </a:rPr>
              <a:t>(переходы металл – изолятор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352680" y="1805040"/>
          <a:ext cx="563904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805040"/>
                    <a:ext cx="563904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27200" y="685800"/>
          <a:ext cx="1996920" cy="548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685800"/>
                    <a:ext cx="1996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87560" y="2743200"/>
            <a:ext cx="145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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(g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Times New Roman"/>
              </a:rPr>
              <a:t>F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5600" y="152280"/>
            <a:ext cx="341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Критерий грануляр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5791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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~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579132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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~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6840" y="571500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A. Frydman., Physica C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391</a:t>
            </a: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, 189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143000" y="1703520"/>
          <a:ext cx="64501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03520"/>
                    <a:ext cx="64501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803040" y="6248520"/>
            <a:ext cx="50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B. Abeles et al.,  Advances in Physics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24</a:t>
            </a: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, 407 (19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228600"/>
            <a:ext cx="259092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304920"/>
                <a:ext cx="2362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838080"/>
            <a:ext cx="49528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3021600">
            <a:off x="1308240" y="2348640"/>
            <a:ext cx="2779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67652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1828800"/>
            <a:ext cx="4572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2057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10666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17524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219320"/>
            <a:ext cx="45720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83808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8380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914400"/>
            <a:ext cx="1295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160020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1828800"/>
            <a:ext cx="53316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91440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1905120"/>
            <a:ext cx="45720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137160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2096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12952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838080"/>
            <a:ext cx="4572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286000"/>
            <a:ext cx="2286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447920"/>
            <a:ext cx="4572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838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22860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15238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26668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9144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3021600">
            <a:off x="3124080" y="2285640"/>
            <a:ext cx="30456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0336200">
            <a:off x="2133000" y="1181160"/>
            <a:ext cx="1522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056200">
            <a:off x="3421080" y="1506600"/>
            <a:ext cx="2286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1638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2247840"/>
            <a:ext cx="22860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55276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255276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536200">
            <a:off x="609120" y="255276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163836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140976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133344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901600">
            <a:off x="4723920" y="1942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152280"/>
            <a:ext cx="36576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Кулоновская блок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19051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12193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82880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182880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20968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121932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91440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28600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990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1828800"/>
            <a:ext cx="152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66688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14300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7621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Кулоновская энергия заряженной  гран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209680" y="3657600"/>
                <a:ext cx="43182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286000" y="32004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то количество заряженных гран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095880" y="1600200"/>
                <a:ext cx="2438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C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κ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6172200" y="2514600"/>
            <a:ext cx="228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Если  </a:t>
            </a:r>
            <a:r>
              <a:rPr b="1" lang="en-US" sz="2200" spc="-1" strike="noStrike">
                <a:solidFill>
                  <a:srgbClr val="800000"/>
                </a:solidFill>
                <a:latin typeface="Symbol"/>
                <a:ea typeface="Symbol"/>
              </a:rPr>
              <a:t></a:t>
            </a:r>
            <a:r>
              <a:rPr b="1" i="1" lang="en-US" sz="2200" spc="-1" strike="noStrike" baseline="-25000">
                <a:solidFill>
                  <a:srgbClr val="800000"/>
                </a:solidFill>
                <a:latin typeface="Times New Roman"/>
              </a:rPr>
              <a:t>C </a:t>
            </a:r>
            <a:r>
              <a:rPr b="1" i="1" lang="en-US" sz="2200" spc="-1" strike="noStrike">
                <a:solidFill>
                  <a:srgbClr val="800000"/>
                </a:solidFill>
                <a:latin typeface="Times New Roman"/>
              </a:rPr>
              <a:t>&lt;&lt; T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45720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Подвижность       пропорциональна вероятности туннелирования заряда с одной  гранулы на друг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581280" y="5105520"/>
                <a:ext cx="42116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βa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80880" y="56386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00"/>
                </a:solidFill>
                <a:latin typeface="Times New Roman"/>
              </a:rPr>
              <a:t>Ит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5638680"/>
            <a:ext cx="3962160" cy="1067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438280" y="5715000"/>
                <a:ext cx="37148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μ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κ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β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981080" y="4648320"/>
                <a:ext cx="2588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3520" y="0"/>
            <a:ext cx="78483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Туннельные характеристики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533520"/>
            <a:ext cx="25146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219320" y="762120"/>
          <a:ext cx="617220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1722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955680" y="6491160"/>
            <a:ext cx="50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B. Abeles et al.,  Advances in Physics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24</a:t>
            </a:r>
            <a:r>
              <a:rPr b="0" i="1" lang="en-US" sz="1800" spc="-1" strike="noStrike">
                <a:solidFill>
                  <a:srgbClr val="993366"/>
                </a:solidFill>
                <a:latin typeface="Times New Roman"/>
              </a:rPr>
              <a:t>, 407 (19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11:47:12Z</dcterms:created>
  <dc:creator>Gantmakher</dc:creator>
  <dc:description/>
  <dc:language>en-US</dc:language>
  <cp:lastModifiedBy>Gantmakher</cp:lastModifiedBy>
  <dcterms:modified xsi:type="dcterms:W3CDTF">2006-04-18T05:06:00Z</dcterms:modified>
  <cp:revision>15</cp:revision>
  <dc:subject/>
  <dc:title>Презентация PowerPoint</dc:title>
</cp:coreProperties>
</file>