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5E3F-940F-4A82-9D55-17037D8C2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4345-2B7F-40D0-BB13-D0D29144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CEC1-8545-4007-A234-F310FBB7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EC1C-D7D9-4D7C-98A7-F1FDD8AED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2B42-7ACC-41AA-8362-6FAA4C94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AFFD-A558-4DBF-9CBA-0F7CF549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DD9A-891E-41B7-8B75-7A655B12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C047-2CA5-4D7B-831C-BA9ED335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9EAA-3013-4ABC-9190-E3A82529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0DD0-B7C0-4D41-AA9F-1737D356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AA88-4AFA-497F-9E7A-733EA0D9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0593-B183-4F49-9D6F-314B0851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4D88-8A32-4CE0-B9CB-2AA1E74EE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248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Квантовые поправки к проводим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19051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Слабая локализац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межэлектронное взаимодейств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33720" y="3809880"/>
            <a:ext cx="4724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990099"/>
                </a:solidFill>
                <a:latin typeface="Times New Roman"/>
              </a:rPr>
              <a:t>Два типа электронного рассеяния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419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9933"/>
                </a:solidFill>
                <a:latin typeface="Times New Roman"/>
              </a:rPr>
              <a:t>Упругое</a:t>
            </a:r>
            <a:r>
              <a:rPr b="0" lang="ru-RU" sz="2400" spc="-1" strike="noStrike">
                <a:solidFill>
                  <a:srgbClr val="339933"/>
                </a:solidFill>
                <a:latin typeface="Times New Roman"/>
              </a:rPr>
              <a:t> с вероятностью  </a:t>
            </a:r>
            <a:r>
              <a:rPr b="1" lang="ru-RU" sz="2400" spc="-1" strike="noStrike">
                <a:solidFill>
                  <a:srgbClr val="339933"/>
                </a:solidFill>
                <a:latin typeface="Times New Roman"/>
              </a:rPr>
              <a:t>1/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4952880"/>
            <a:ext cx="2895840" cy="12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Выражение для фазы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волновой функ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сохраняетс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295280" y="5562720"/>
                <a:ext cx="191952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∝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εt</m:t>
                        </m:r>
                      </m:num>
                      <m:den>
                        <m:r>
                          <m:t xml:space="preserve">ℏ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4724280" y="4419720"/>
            <a:ext cx="4114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9933"/>
                </a:solidFill>
                <a:latin typeface="Times New Roman"/>
              </a:rPr>
              <a:t>Неупругое с вероятностью  </a:t>
            </a:r>
            <a:r>
              <a:rPr b="1" lang="ru-RU" sz="2200" spc="-1" strike="noStrike">
                <a:solidFill>
                  <a:srgbClr val="339933"/>
                </a:solidFill>
                <a:latin typeface="Times New Roman"/>
              </a:rPr>
              <a:t>1/</a:t>
            </a:r>
            <a:r>
              <a:rPr b="1" lang="en-US" sz="2200" spc="-1" strike="noStrike">
                <a:solidFill>
                  <a:srgbClr val="339933"/>
                </a:solidFill>
                <a:latin typeface="Symbol"/>
                <a:ea typeface="Symbol"/>
              </a:rPr>
              <a:t></a:t>
            </a:r>
            <a:r>
              <a:rPr b="1" lang="en-US" sz="2200" spc="-1" strike="noStrike" baseline="-25000">
                <a:solidFill>
                  <a:srgbClr val="339933"/>
                </a:solidFill>
                <a:latin typeface="Symbol"/>
                <a:ea typeface="Symbol"/>
              </a:rPr>
              <a:t>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19520" y="9907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в грязных металлах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24280" y="5486400"/>
            <a:ext cx="1447920" cy="579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770120" y="6156360"/>
                <a:ext cx="112068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εt</m:t>
                        </m:r>
                      </m:num>
                      <m:den>
                        <m:r>
                          <m:t xml:space="preserve">ℏ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6477120" y="54864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диффуз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1295280"/>
            <a:ext cx="1904760" cy="12956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7086600" y="1371600"/>
                <a:ext cx="144792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l</m:t>
                        </m:r>
                      </m:num>
                      <m:den>
                        <m:r>
                          <m:t xml:space="preserve">ℏ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4648320" y="2779560"/>
          <a:ext cx="4114800" cy="312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779560"/>
                    <a:ext cx="4114800" cy="31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685800" y="2743200"/>
          <a:ext cx="3344760" cy="32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743200"/>
                    <a:ext cx="3344760" cy="32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533520" y="4572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457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3808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3808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52680" y="3808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457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4572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458200" y="152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38880" y="3808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10280" y="4572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295280" y="1219320"/>
                <a:ext cx="677880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Δσ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σ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τ</m:t>
                        </m:r>
                      </m:sub>
                      <m:sup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ϕ</m:t>
                            </m:r>
                          </m:sub>
                        </m:sSub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d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sup>
                            </m:sSup>
                          </m:den>
                        </m:f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o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2743200" y="624852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G.Bergmann,</a:t>
            </a: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 Phys.Rep. 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107, </a:t>
            </a: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1 (198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762120" y="2438280"/>
          <a:ext cx="3352680" cy="31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438280"/>
                    <a:ext cx="3352680" cy="31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800600" y="2481120"/>
          <a:ext cx="3962520" cy="312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481120"/>
                    <a:ext cx="3962520" cy="31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685800" y="1522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Спин-орбитальное взаимодействие определяется произведением</a:t>
            </a:r>
            <a:r>
              <a:rPr b="1" i="1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a50021"/>
                </a:solidFill>
                <a:latin typeface="Symbol"/>
                <a:ea typeface="Symbol"/>
              </a:rPr>
              <a:t></a:t>
            </a:r>
            <a:r>
              <a:rPr b="1" i="1" lang="ru-RU" sz="2400" spc="-1" strike="noStrike">
                <a:solidFill>
                  <a:srgbClr val="a50021"/>
                </a:solidFill>
                <a:latin typeface="Times New Roman"/>
              </a:rPr>
              <a:t>e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Symbol"/>
                <a:ea typeface="Symbol"/>
              </a:rPr>
              <a:t></a:t>
            </a:r>
            <a:r>
              <a:rPr b="1" i="1" lang="en-US" sz="2400" spc="-1" strike="noStrike">
                <a:solidFill>
                  <a:srgbClr val="a50021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a50021"/>
                </a:solidFill>
                <a:latin typeface="Symbol"/>
                <a:ea typeface="Symbol"/>
              </a:rPr>
              <a:t></a:t>
            </a:r>
            <a:r>
              <a:rPr b="1" i="1" lang="en-US" sz="2400" spc="-1" strike="noStrike">
                <a:solidFill>
                  <a:srgbClr val="a50021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a50021"/>
                </a:solidFill>
                <a:latin typeface="Symbol"/>
                <a:ea typeface="Symbol"/>
              </a:rPr>
              <a:t></a:t>
            </a:r>
            <a:r>
              <a:rPr b="1" i="1" lang="ru-RU" sz="2400" spc="-1" strike="noStrike">
                <a:solidFill>
                  <a:srgbClr val="a50021"/>
                </a:solidFill>
                <a:latin typeface="Times New Roman"/>
              </a:rPr>
              <a:t>.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Кристаллическое (и вообще, внешнее) поле входит в это выражение дважды, через </a:t>
            </a:r>
            <a:r>
              <a:rPr b="1" i="1" lang="en-US" sz="2400" spc="-1" strike="noStrike">
                <a:solidFill>
                  <a:srgbClr val="a50021"/>
                </a:solidFill>
                <a:latin typeface="Symbol"/>
                <a:ea typeface="Symbol"/>
              </a:rPr>
              <a:t>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и через  </a:t>
            </a:r>
            <a:r>
              <a:rPr b="1" i="1" lang="en-US" sz="2400" spc="-1" strike="noStrike">
                <a:solidFill>
                  <a:srgbClr val="a50021"/>
                </a:solidFill>
                <a:latin typeface="Times New Roman"/>
              </a:rPr>
              <a:t>v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37160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99"/>
                </a:solidFill>
                <a:latin typeface="Times New Roman"/>
              </a:rPr>
              <a:t>В  гетероструктурах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99"/>
                </a:solidFill>
                <a:latin typeface="Times New Roman"/>
              </a:rPr>
              <a:t>это  приводит  к  зависимости  от  степени  асимметрии  ям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24280" y="5791320"/>
            <a:ext cx="426744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J.B. Miller 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et al.,</a:t>
            </a: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PRL 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90, </a:t>
            </a: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076807 (20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5791320"/>
            <a:ext cx="426744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S.A. Studenikin 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et al.,</a:t>
            </a: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Письма в ЖЭТФ 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77, </a:t>
            </a: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362  (20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048120" y="2209680"/>
            <a:ext cx="5715000" cy="609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80880" y="990720"/>
          <a:ext cx="224964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90720"/>
                    <a:ext cx="224964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160020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ее -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взаимодействие (интерференц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1523880"/>
            <a:ext cx="133200" cy="133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95280" y="2057400"/>
            <a:ext cx="133560" cy="133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943600" y="990720"/>
                <a:ext cx="213372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  <m:e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l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t</m:t>
                            </m:r>
                            <m:r>
                              <m:t xml:space="preserve">/</m:t>
                            </m:r>
                            <m:r>
                              <m:t xml:space="preserve">τ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tτ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380880" y="1905120"/>
            <a:ext cx="0" cy="167616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90920" y="1981080"/>
            <a:ext cx="0" cy="167652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3429000"/>
            <a:ext cx="2210040" cy="0"/>
          </a:xfrm>
          <a:prstGeom prst="line">
            <a:avLst/>
          </a:prstGeom>
          <a:ln w="936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320040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8120" y="228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Фа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038480" y="2286000"/>
                <a:ext cx="46497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iϕ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[</m:t>
                    </m:r>
                    <m:r>
                      <m:t xml:space="preserve">i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/</m:t>
                    </m:r>
                    <m:r>
                      <m:t xml:space="preserve">ℏ</m:t>
                    </m:r>
                    <m:r>
                      <m:t xml:space="preserve">)</m:t>
                    </m:r>
                    <m:r>
                      <m:t xml:space="preserve">t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Δϕ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Δε</m:t>
                    </m:r>
                    <m:r>
                      <m:t xml:space="preserve">/</m:t>
                    </m:r>
                    <m:r>
                      <m:t xml:space="preserve">ℏ</m:t>
                    </m:r>
                    <m:r>
                      <m:t xml:space="preserve">)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2971800" y="32767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Время расфазиров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715000" y="3276720"/>
                <a:ext cx="13716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ℏ</m:t>
                        </m:r>
                        <m:r>
                          <m:t xml:space="preserve">/</m:t>
                        </m:r>
                        <m:r>
                          <m:t xml:space="preserve">Δε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Δε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7086600" y="327672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286"/>
                </a:lnTo>
                <a:cubicBezTo>
                  <a:pt x="10800" y="10186"/>
                  <a:pt x="16200" y="11086"/>
                  <a:pt x="21600" y="11086"/>
                </a:cubicBezTo>
                <a:cubicBezTo>
                  <a:pt x="16200" y="11086"/>
                  <a:pt x="10800" y="11986"/>
                  <a:pt x="10800" y="1288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7543800" y="3429000"/>
                <a:ext cx="12398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ℏ</m:t>
                    </m:r>
                    <m:r>
                      <m:t xml:space="preserve">/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380880" y="449568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Длина  расфазиров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270240" y="4267080"/>
                <a:ext cx="408780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l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e>
                    </m:rad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ℏ</m:t>
                            </m:r>
                            <m:r>
                              <m:t xml:space="preserve">τ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rad>
                    <m:r>
                      <m:t xml:space="preserve">≈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ℏ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rad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228600" y="5410080"/>
            <a:ext cx="8686800" cy="9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Диффундирующие электроны в течение времени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</a:t>
            </a:r>
            <a:r>
              <a:rPr b="1" i="1" lang="en-US" sz="2800" spc="-1" strike="noStrike" baseline="-25000">
                <a:solidFill>
                  <a:srgbClr val="a50021"/>
                </a:solidFill>
                <a:latin typeface="Times New Roman"/>
              </a:rPr>
              <a:t>ee</a:t>
            </a:r>
            <a:r>
              <a:rPr b="1" i="1" lang="ru-RU" sz="2400" spc="-1" strike="noStrike">
                <a:solidFill>
                  <a:srgbClr val="a50021"/>
                </a:solidFill>
                <a:latin typeface="Times New Roman"/>
              </a:rPr>
              <a:t>  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сохраняют когерентность, расходясь за это время на расстояние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a50021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a50021"/>
                </a:solidFill>
                <a:latin typeface="Times New Roman"/>
              </a:rPr>
              <a:t>ee</a:t>
            </a:r>
            <a:r>
              <a:rPr b="1" i="1" lang="en-US" sz="2400" spc="-1" strike="noStrike">
                <a:solidFill>
                  <a:srgbClr val="a50021"/>
                </a:solidFill>
                <a:latin typeface="Symbol"/>
                <a:ea typeface="Symbol"/>
              </a:rPr>
              <a:t>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5480" y="9907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99"/>
                </a:solidFill>
                <a:latin typeface="Times New Roman"/>
              </a:rPr>
              <a:t>Баллистический режи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99"/>
                </a:solidFill>
                <a:latin typeface="Times New Roman"/>
              </a:rPr>
              <a:t>Диффузионный режи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447920" y="4038480"/>
            <a:ext cx="6476760" cy="266724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47920" y="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Times New Roman"/>
              </a:rPr>
              <a:t>Влияние диффузии на частоту ее-столкнов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2280" y="6858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99"/>
                </a:solidFill>
                <a:latin typeface="Times New Roman"/>
              </a:rPr>
              <a:t>Баллистический режи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81280" y="762120"/>
            <a:ext cx="106704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3581280" y="1066680"/>
            <a:ext cx="1067040" cy="152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05520" y="1066680"/>
            <a:ext cx="99036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105520" y="609120"/>
            <a:ext cx="9903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838080"/>
            <a:ext cx="533160" cy="30492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5880" y="457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457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1066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58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6858000" y="704880"/>
                <a:ext cx="16765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ℏ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228600" y="16002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99"/>
                </a:solidFill>
                <a:latin typeface="Times New Roman"/>
              </a:rPr>
              <a:t>Диффузионный режи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1981080"/>
            <a:ext cx="883944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Размер области взаимодействия   </a:t>
            </a:r>
            <a:r>
              <a:rPr b="0" i="1" lang="en-US" sz="2400" spc="-1" strike="noStrike">
                <a:solidFill>
                  <a:srgbClr val="336600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336600"/>
                </a:solidFill>
                <a:latin typeface="Times New Roman"/>
              </a:rPr>
              <a:t>ee</a:t>
            </a:r>
            <a:r>
              <a:rPr b="0" i="1" lang="en-US" sz="2400" spc="-1" strike="noStrike">
                <a:solidFill>
                  <a:srgbClr val="336600"/>
                </a:solidFill>
                <a:latin typeface="Times New Roman"/>
              </a:rPr>
              <a:t>&gt;&gt;1</a:t>
            </a:r>
            <a:r>
              <a:rPr b="1" i="1" lang="en-US" sz="2800" spc="-1" strike="noStrike">
                <a:solidFill>
                  <a:srgbClr val="3366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336600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6600"/>
                </a:solidFill>
                <a:latin typeface="Times New Roman"/>
              </a:rPr>
              <a:t>F </a:t>
            </a:r>
            <a:r>
              <a:rPr b="0" i="1" lang="en-US" sz="2400" spc="-1" strike="noStrike">
                <a:solidFill>
                  <a:srgbClr val="336600"/>
                </a:solidFill>
                <a:latin typeface="Times New Roman"/>
              </a:rPr>
              <a:t>,  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переданный  импульс  мал</a:t>
            </a:r>
            <a:r>
              <a:rPr b="0" i="1" lang="ru-RU" sz="20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66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6600"/>
                </a:solidFill>
                <a:latin typeface="Times New Roman"/>
              </a:rPr>
              <a:t>q </a:t>
            </a:r>
            <a:r>
              <a:rPr b="0" lang="ru-RU" sz="2400" spc="-1" strike="noStrike">
                <a:solidFill>
                  <a:srgbClr val="336600"/>
                </a:solidFill>
                <a:latin typeface="Symbol"/>
                <a:ea typeface="Symbol"/>
              </a:rPr>
              <a:t></a:t>
            </a:r>
            <a:r>
              <a:rPr b="0" i="1" lang="en-US" sz="2400" spc="-1" strike="noStrike">
                <a:solidFill>
                  <a:srgbClr val="336600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336600"/>
                </a:solidFill>
                <a:latin typeface="Times New Roman"/>
              </a:rPr>
              <a:t>ee </a:t>
            </a:r>
            <a:r>
              <a:rPr b="0" i="1" lang="en-US" sz="2400" spc="-1" strike="noStrike">
                <a:solidFill>
                  <a:srgbClr val="336600"/>
                </a:solidFill>
                <a:latin typeface="Times New Roman"/>
              </a:rPr>
              <a:t>&lt;&lt; k</a:t>
            </a:r>
            <a:r>
              <a:rPr b="0" i="1" lang="en-US" sz="2400" spc="-1" strike="noStrike" baseline="-25000">
                <a:solidFill>
                  <a:srgbClr val="3366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04920" y="3048120"/>
                <a:ext cx="302868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ℏ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1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  <m:sup>
                        <m:r>
                          <m:t xml:space="preserve">d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352680" y="33526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 плотность состоя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6172200" y="3200400"/>
                <a:ext cx="18446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d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828800" y="4259160"/>
                <a:ext cx="5800680" cy="23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τ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f>
                          <m:num>
                            <m:r>
                              <m:t xml:space="preserve">ℏ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d</m:t>
                            </m:r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sup>
                        </m:sSubSup>
                        <m:sSup>
                          <m:e>
                            <m:r>
                              <m:t xml:space="preserve">τ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Sup>
                          <m:e>
                            <m:r>
                              <m:t xml:space="preserve">Tε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sSup>
                          <m:e>
                            <m:r>
                              <m:t xml:space="preserve">τ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τ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4557600" y="4343400"/>
            <a:ext cx="152640" cy="2133720"/>
          </a:xfrm>
          <a:custGeom>
            <a:avLst/>
            <a:gdLst>
              <a:gd name="textAreaLeft" fmla="*/ 97560 w 152640"/>
              <a:gd name="textAreaRight" fmla="*/ 153000 w 15264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13"/>
                </a:lnTo>
                <a:cubicBezTo>
                  <a:pt x="10800" y="10013"/>
                  <a:pt x="5400" y="10913"/>
                  <a:pt x="0" y="10913"/>
                </a:cubicBezTo>
                <a:cubicBezTo>
                  <a:pt x="5400" y="10913"/>
                  <a:pt x="10800" y="11813"/>
                  <a:pt x="10800" y="1271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Квантовая поправка к проводим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от межэлетронной интерферен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800600" y="1219320"/>
          <a:ext cx="3560760" cy="35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219320"/>
                    <a:ext cx="3560760" cy="35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228600" y="1295280"/>
            <a:ext cx="434340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Основное влия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ее</a:t>
            </a: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-взаимодействия на транспорт  осуществляется за счет особенности в плотности состоя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3124080"/>
            <a:ext cx="2819520" cy="33530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507960" y="3179880"/>
                <a:ext cx="26082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ℏ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e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73120" y="4419720"/>
                <a:ext cx="25131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ℏ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</m:sSub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65280" y="5511960"/>
                <a:ext cx="2313000" cy="82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ℏ</m:t>
                        </m:r>
                      </m:den>
                    </m:f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4419720" y="5105520"/>
                <a:ext cx="402588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τ</m:t>
                        </m:r>
                      </m:sub>
                      <m:sup>
                        <m:r>
                          <m:t xml:space="preserve">ℏ</m:t>
                        </m:r>
                        <m:r>
                          <m:t xml:space="preserve">/</m:t>
                        </m:r>
                        <m:r>
                          <m:t xml:space="preserve">T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d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  ,     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2598840" y="990720"/>
          <a:ext cx="46242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8840" y="990720"/>
                    <a:ext cx="46242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581280" y="15228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Выводы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838080" y="762120"/>
          <a:ext cx="5334120" cy="51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762120"/>
                    <a:ext cx="533412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1143000" y="61722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..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и планы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Что делать, чтобы добиться локализации ?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05720" y="1905120"/>
            <a:ext cx="1828800" cy="30376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экспер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1.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Cu</a:t>
            </a: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1.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Al</a:t>
            </a: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0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Sn</a:t>
            </a: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0.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Pb</a:t>
            </a: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Ag</a:t>
            </a: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90920" y="1522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Слабая локализ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872320" y="1219320"/>
          <a:ext cx="290988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72320" y="1219320"/>
                    <a:ext cx="29098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04920" y="1143000"/>
                <a:ext cx="51814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d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152280" y="243828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9933"/>
                </a:solidFill>
                <a:latin typeface="Times New Roman"/>
              </a:rPr>
              <a:t>Коэффициент диффуз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200400" y="2286000"/>
                <a:ext cx="243828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v</m:t>
                    </m:r>
                    <m:r>
                      <m:t xml:space="preserve">≈</m:t>
                    </m:r>
                    <m:sSup>
                      <m:e>
                        <m:r>
                          <m:t xml:space="preserve">τ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609480" y="3200400"/>
            <a:ext cx="47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9933"/>
                </a:solidFill>
                <a:latin typeface="Times New Roman"/>
              </a:rPr>
              <a:t>Ширина распределения после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2000" spc="-1" strike="noStrike">
                <a:solidFill>
                  <a:srgbClr val="339933"/>
                </a:solidFill>
                <a:latin typeface="Times New Roman"/>
              </a:rPr>
              <a:t> шаг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981080" y="3608280"/>
                <a:ext cx="30481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  <m:r>
                      <m:t xml:space="preserve">=</m:t>
                    </m:r>
                    <m:r>
                      <m:t xml:space="preserve">l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t</m:t>
                        </m:r>
                        <m:r>
                          <m:t xml:space="preserve">τ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rad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62" name=""/>
          <p:cNvGraphicFramePr/>
          <p:nvPr/>
        </p:nvGraphicFramePr>
        <p:xfrm>
          <a:off x="228600" y="3962520"/>
          <a:ext cx="2508120" cy="27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962520"/>
                    <a:ext cx="250812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3352680" y="4952880"/>
            <a:ext cx="495324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Без интерференции    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|A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|</a:t>
            </a:r>
            <a:r>
              <a:rPr b="1" lang="en-US" sz="2400" spc="-1" strike="noStrike" baseline="30000">
                <a:solidFill>
                  <a:srgbClr val="99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+|A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|</a:t>
            </a:r>
            <a:r>
              <a:rPr b="1" lang="en-US" sz="2400" spc="-1" strike="noStrike" baseline="30000">
                <a:solidFill>
                  <a:srgbClr val="99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= 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2A</a:t>
            </a:r>
            <a:r>
              <a:rPr b="1" lang="en-US" sz="2800" spc="-1" strike="noStrike" baseline="30000">
                <a:solidFill>
                  <a:srgbClr val="99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5638680"/>
            <a:ext cx="495288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C интерференцией    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|A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+A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|</a:t>
            </a:r>
            <a:r>
              <a:rPr b="1" lang="en-US" sz="2400" spc="-1" strike="noStrike" baseline="30000">
                <a:solidFill>
                  <a:srgbClr val="99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= |A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|</a:t>
            </a:r>
            <a:r>
              <a:rPr b="1" lang="en-US" sz="2400" spc="-1" strike="noStrike" baseline="30000">
                <a:solidFill>
                  <a:srgbClr val="99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+|A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|</a:t>
            </a:r>
            <a:r>
              <a:rPr b="1" lang="en-US" sz="2400" spc="-1" strike="noStrike" baseline="30000">
                <a:solidFill>
                  <a:srgbClr val="99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+2A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 = 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4A</a:t>
            </a:r>
            <a:r>
              <a:rPr b="1" lang="en-US" sz="2800" spc="-1" strike="noStrike" baseline="30000">
                <a:solidFill>
                  <a:srgbClr val="99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324480" y="2590920"/>
            <a:ext cx="2667240" cy="33526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455840" y="685800"/>
                <a:ext cx="72975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σ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τ</m:t>
                        </m:r>
                      </m:sub>
                      <m:sup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ϕ</m:t>
                            </m:r>
                          </m:sub>
                        </m:sSub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sSup>
                      <m:e>
                        <m:r>
                          <m:t xml:space="preserve">τ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bSup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ϕ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l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ϕ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3583440" y="0"/>
            <a:ext cx="17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Times New Roman"/>
              </a:rPr>
              <a:t>Вычис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60948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 =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388620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 =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525780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 =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177920" y="3657600"/>
                <a:ext cx="463860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σ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τ</m:t>
                        </m:r>
                      </m:sub>
                      <m:sup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ϕ</m:t>
                            </m:r>
                          </m:sub>
                        </m:sSub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)</m:t>
                            </m:r>
                            <m:r>
                              <m:t xml:space="preserve">b</m:t>
                            </m:r>
                          </m:den>
                        </m:f>
                      </m:e>
                    </m:nary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ϕ</m:t>
                        </m:r>
                      </m:sub>
                    </m:sSub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052640" y="4952880"/>
                <a:ext cx="498132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σ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τ</m:t>
                        </m:r>
                      </m:sub>
                      <m:sup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ϕ</m:t>
                            </m:r>
                          </m:sub>
                        </m:sSub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ϕ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514600" y="2438280"/>
                <a:ext cx="29718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ϕ</m:t>
                        </m:r>
                      </m:sub>
                    </m:sSub>
                    <m:r>
                      <m:t xml:space="preserve">≈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Dτ</m:t>
                            </m:r>
                          </m:e>
                          <m:sub>
                            <m:r>
                              <m:t xml:space="preserve">ϕ</m:t>
                            </m:r>
                          </m:sub>
                        </m:sSub>
                      </m:e>
                    </m:rad>
                    <m:r>
                      <m:t xml:space="preserve">≈</m:t>
                    </m:r>
                    <m:r>
                      <m:t xml:space="preserve">l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ϕ</m:t>
                        </m:r>
                      </m:sub>
                    </m:sSub>
                    <m:r>
                      <m:t xml:space="preserve">/</m:t>
                    </m:r>
                    <m:sSup>
                      <m:e>
                        <m:r>
                          <m:t xml:space="preserve">τ</m:t>
                        </m:r>
                        <m:r>
                          <m:t xml:space="preserve">)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400800" y="2593800"/>
                <a:ext cx="23734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σ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ℏ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ϕ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461280" y="3860640"/>
                <a:ext cx="22874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σ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ℏ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ϕ</m:t>
                        </m:r>
                      </m:sub>
                    </m:sSub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6553080" y="4952880"/>
                <a:ext cx="20862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ℏ</m:t>
                        </m:r>
                      </m:den>
                    </m:f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ϕ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7772400" y="1981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const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8153280" y="1752120"/>
            <a:ext cx="22860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153280" y="2286000"/>
            <a:ext cx="22860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7238880" y="6164280"/>
                <a:ext cx="11430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σb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04920" y="198108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339933"/>
                </a:solidFill>
                <a:latin typeface="Times New Roman"/>
              </a:rPr>
              <a:t>диффузионная длин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281952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339933"/>
                </a:solidFill>
                <a:latin typeface="Times New Roman"/>
              </a:rPr>
              <a:t>диффузионное врем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1981080"/>
            <a:ext cx="5562720" cy="1447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86000" y="2438280"/>
            <a:ext cx="457200" cy="3049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2438280"/>
            <a:ext cx="457200" cy="3049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52280" y="692280"/>
          <a:ext cx="403884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92280"/>
                    <a:ext cx="403884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6299280" y="3581280"/>
          <a:ext cx="2509920" cy="266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99280" y="3581280"/>
                    <a:ext cx="25099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380880" y="3657600"/>
          <a:ext cx="2713320" cy="274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3657600"/>
                    <a:ext cx="27133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1143000" y="152280"/>
            <a:ext cx="708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99"/>
                </a:solidFill>
                <a:latin typeface="Times New Roman"/>
              </a:rPr>
              <a:t>Экспериментальные наблюдения слабой локализац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9907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Cu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L.Van der Dreis et al., PRL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46,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565 (198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15238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u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С.И.Дорожкин, В.Т.Долгополов.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Письма в ЖЭТФ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36,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15 (198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95680" y="2743200"/>
            <a:ext cx="434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8000"/>
                </a:solidFill>
                <a:latin typeface="Times New Roman"/>
              </a:rPr>
              <a:t>В формулы для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</a:t>
            </a: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8000"/>
                </a:solidFill>
                <a:latin typeface="Times New Roman"/>
              </a:rPr>
              <a:t>не входят н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1800" spc="-1" strike="noStrike">
                <a:solidFill>
                  <a:srgbClr val="008000"/>
                </a:solidFill>
                <a:latin typeface="Times New Roman"/>
              </a:rPr>
              <a:t> , ни 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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91120" y="2590920"/>
            <a:ext cx="4724280" cy="838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05520" y="6019920"/>
            <a:ext cx="228600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Z.Ovadyahu, Y.Im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B 2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4,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7440 (198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00400" y="3733920"/>
            <a:ext cx="22860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D.J.Bishop, D.C.Tsui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.C.Dynes, PRL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44,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1153 (198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6400800"/>
            <a:ext cx="1905120" cy="3373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Гетерострукту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03880" y="3657600"/>
            <a:ext cx="653040" cy="3373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-I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438280" y="152280"/>
            <a:ext cx="4724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99"/>
                </a:solidFill>
                <a:latin typeface="Times New Roman"/>
              </a:rPr>
              <a:t>Когерентное рассеяние света наза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3505320"/>
            <a:ext cx="3353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Описание слабой локализации в </a:t>
            </a: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k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представлен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648320"/>
            <a:ext cx="28954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k + q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= k + q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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026040" y="838080"/>
          <a:ext cx="290376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26040" y="838080"/>
                    <a:ext cx="29037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962520" y="3962520"/>
          <a:ext cx="2733480" cy="198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3962520"/>
                    <a:ext cx="2733480" cy="19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6934320" y="4038480"/>
            <a:ext cx="20574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.Wolf, G.Mare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L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55,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1153 (198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16765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Times New Roman"/>
              </a:rPr>
              <a:t>Взвесь полистироловых шариков </a:t>
            </a:r>
            <a:r>
              <a:rPr b="1" lang="ru-RU" sz="1800" spc="-1" strike="noStrike">
                <a:solidFill>
                  <a:srgbClr val="008000"/>
                </a:solidFill>
                <a:latin typeface="Symbol"/>
                <a:ea typeface="Symbol"/>
              </a:rPr>
              <a:t></a:t>
            </a:r>
            <a:r>
              <a:rPr b="1" lang="en-US" sz="1800" spc="-1" strike="noStrike">
                <a:solidFill>
                  <a:srgbClr val="008000"/>
                </a:solidFill>
                <a:latin typeface="Symbol"/>
                <a:ea typeface="Symbol"/>
              </a:rPr>
              <a:t></a:t>
            </a:r>
            <a:r>
              <a:rPr b="1" i="1" lang="ru-RU" sz="1800" spc="-1" strike="noStrike">
                <a:solidFill>
                  <a:srgbClr val="008000"/>
                </a:solidFill>
                <a:latin typeface="Times New Roman"/>
              </a:rPr>
              <a:t>в вод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477120" y="1828440"/>
            <a:ext cx="1066680" cy="2286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09480" y="762120"/>
          <a:ext cx="2514600" cy="250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762120"/>
                    <a:ext cx="2514600" cy="25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09480" y="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99"/>
                </a:solidFill>
                <a:latin typeface="Times New Roman"/>
              </a:rPr>
              <a:t>Разрушение слабой локализации магнитным полем  </a:t>
            </a:r>
            <a:r>
              <a:rPr b="1" lang="en-US" sz="2400" spc="-1" strike="noStrike">
                <a:solidFill>
                  <a:srgbClr val="990099"/>
                </a:solidFill>
                <a:latin typeface="Symbol"/>
                <a:ea typeface="Symbol"/>
              </a:rPr>
              <a:t></a:t>
            </a:r>
            <a:r>
              <a:rPr b="1" lang="en-US" sz="2200" spc="-1" strike="noStrike">
                <a:solidFill>
                  <a:srgbClr val="990099"/>
                </a:solidFill>
                <a:latin typeface="Times New Roman"/>
              </a:rPr>
              <a:t> &lt;&lt;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609480"/>
            <a:ext cx="716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ff"/>
                </a:solidFill>
                <a:latin typeface="Times New Roman"/>
              </a:rPr>
              <a:t>При  обходе  замкнутой  </a:t>
            </a:r>
            <a:r>
              <a:rPr b="1" i="1" lang="ru-RU" sz="1800" spc="-1" strike="noStrike">
                <a:solidFill>
                  <a:srgbClr val="3333ff"/>
                </a:solidFill>
                <a:latin typeface="Times New Roman"/>
              </a:rPr>
              <a:t>диффузионной</a:t>
            </a:r>
            <a:r>
              <a:rPr b="0" i="1" lang="ru-RU" sz="1800" spc="-1" strike="noStrike">
                <a:solidFill>
                  <a:srgbClr val="3333ff"/>
                </a:solidFill>
                <a:latin typeface="Times New Roman"/>
              </a:rPr>
              <a:t>  траектории площадью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143000" y="1074600"/>
                <a:ext cx="670572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→</m:t>
                    </m:r>
                    <m:r>
                      <m:t xml:space="preserve">Ψ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ℏ</m:t>
                            </m:r>
                            <m:r>
                              <m:t xml:space="preserve">c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Adl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Ψ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±</m:t>
                        </m:r>
                        <m:f>
                          <m:num>
                            <m:r>
                              <m:t xml:space="preserve">i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S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ℏ</m:t>
                    </m:r>
                    <m:r>
                      <m:t xml:space="preserve">c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152280" y="2057400"/>
            <a:ext cx="899172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Times New Roman"/>
              </a:rPr>
              <a:t>У обходов в противоположных направлениях появляется разность фаз </a:t>
            </a:r>
            <a:r>
              <a:rPr b="1" lang="en-US" sz="2200" spc="-1" strike="noStrike">
                <a:solidFill>
                  <a:srgbClr val="0000cc"/>
                </a:solidFill>
                <a:latin typeface="Symbol"/>
                <a:ea typeface="Symbol"/>
              </a:rPr>
              <a:t>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= 2</a:t>
            </a:r>
            <a:r>
              <a:rPr b="1" lang="en-US" sz="2200" spc="-1" strike="noStrike">
                <a:solidFill>
                  <a:srgbClr val="0000cc"/>
                </a:solidFill>
                <a:latin typeface="Symbol"/>
                <a:ea typeface="Symbol"/>
              </a:rPr>
              <a:t></a:t>
            </a:r>
            <a:r>
              <a:rPr b="1" i="1" lang="en-US" sz="2200" spc="-1" strike="noStrike">
                <a:solidFill>
                  <a:srgbClr val="0000cc"/>
                </a:solidFill>
                <a:latin typeface="Symbol"/>
                <a:ea typeface="Symbol"/>
              </a:rPr>
              <a:t>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BS/</a:t>
            </a:r>
            <a:r>
              <a:rPr b="1" i="1" lang="en-US" sz="2200" spc="-1" strike="noStrike">
                <a:solidFill>
                  <a:srgbClr val="0000cc"/>
                </a:solidFill>
                <a:latin typeface="Symbol"/>
                <a:ea typeface="Symbol"/>
              </a:rPr>
              <a:t></a:t>
            </a:r>
            <a:r>
              <a:rPr b="1" i="1" lang="en-US" sz="2200" spc="-1" strike="noStrike" baseline="-25000">
                <a:solidFill>
                  <a:srgbClr val="0000cc"/>
                </a:solidFill>
                <a:latin typeface="Times New Roman"/>
              </a:rPr>
              <a:t>0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81080" y="426708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Times New Roman"/>
              </a:rPr>
              <a:t>слабая локализация разрушается. Разрушающее пол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80880" y="3352680"/>
          <a:ext cx="186696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352680"/>
                    <a:ext cx="18669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380880" y="2514600"/>
            <a:ext cx="685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ff"/>
                </a:solidFill>
                <a:latin typeface="Times New Roman"/>
              </a:rPr>
              <a:t>Средняя площадь </a:t>
            </a:r>
            <a:r>
              <a:rPr b="1" i="1" lang="en-US" sz="2200" spc="-1" strike="noStrike">
                <a:solidFill>
                  <a:srgbClr val="3333ff"/>
                </a:solidFill>
                <a:latin typeface="Times New Roman"/>
              </a:rPr>
              <a:t>S</a:t>
            </a:r>
            <a:r>
              <a:rPr b="0" i="1" lang="ru-RU" sz="1800" spc="-1" strike="noStrike">
                <a:solidFill>
                  <a:srgbClr val="3333ff"/>
                </a:solidFill>
                <a:latin typeface="Times New Roman"/>
              </a:rPr>
              <a:t>  и поток </a:t>
            </a:r>
            <a:r>
              <a:rPr b="1" i="1" lang="ru-RU" sz="22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1" i="1" lang="en-US" sz="2200" spc="-1" strike="noStrike">
                <a:solidFill>
                  <a:srgbClr val="3333ff"/>
                </a:solidFill>
                <a:latin typeface="Times New Roman"/>
              </a:rPr>
              <a:t>S</a:t>
            </a:r>
            <a:r>
              <a:rPr b="0" i="1" lang="ru-RU" sz="1800" spc="-1" strike="noStrike">
                <a:solidFill>
                  <a:srgbClr val="3333ff"/>
                </a:solidFill>
                <a:latin typeface="Times New Roman"/>
              </a:rPr>
              <a:t>  через нее зависят от времени</a:t>
            </a:r>
            <a:r>
              <a:rPr b="1" lang="ru-RU" sz="1800" spc="-1" strike="noStrike">
                <a:solidFill>
                  <a:srgbClr val="3333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505320" y="3048120"/>
                <a:ext cx="237492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S</m:t>
                        </m:r>
                      </m:e>
                    </m:bar>
                    <m:r>
                      <m:t xml:space="preserve">≈</m:t>
                    </m:r>
                    <m:r>
                      <m:t xml:space="preserve">Bπ</m:t>
                    </m:r>
                    <m:sSup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≈</m:t>
                    </m:r>
                    <m:sSup>
                      <m:e>
                        <m:r>
                          <m:t xml:space="preserve">Bπl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2209680" y="2590920"/>
            <a:ext cx="22860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05320" y="2590920"/>
            <a:ext cx="22860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3733920"/>
            <a:ext cx="678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ff"/>
                </a:solidFill>
                <a:latin typeface="Times New Roman"/>
              </a:rPr>
              <a:t>Поскольку  </a:t>
            </a:r>
            <a:r>
              <a:rPr b="0" i="1" lang="ru-RU" sz="1800" spc="-1" strike="noStrike" u="sng">
                <a:solidFill>
                  <a:srgbClr val="3333ff"/>
                </a:solidFill>
                <a:uFillTx/>
                <a:latin typeface="Times New Roman"/>
              </a:rPr>
              <a:t>у всех  диффузионных  траекторий площади </a:t>
            </a:r>
            <a:r>
              <a:rPr b="0" i="1" lang="en-US" sz="2200" spc="-1" strike="noStrike" u="sng">
                <a:solidFill>
                  <a:srgbClr val="0000cc"/>
                </a:solidFill>
                <a:uFillTx/>
                <a:latin typeface="Times New Roman"/>
              </a:rPr>
              <a:t>S</a:t>
            </a:r>
            <a:r>
              <a:rPr b="1" i="1" lang="en-US" sz="2200" spc="-1" strike="noStrike" u="sng">
                <a:solidFill>
                  <a:srgbClr val="0000cc"/>
                </a:solidFill>
                <a:uFillTx/>
                <a:latin typeface="Times New Roman"/>
              </a:rPr>
              <a:t> </a:t>
            </a:r>
            <a:r>
              <a:rPr b="0" i="1" lang="en-US" sz="1800" spc="-1" strike="noStrike" u="sng">
                <a:solidFill>
                  <a:srgbClr val="3333ff"/>
                </a:solidFill>
                <a:uFillTx/>
                <a:latin typeface="Times New Roman"/>
              </a:rPr>
              <a:t>разные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114800" y="4724280"/>
                <a:ext cx="182880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ϕ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ℏ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Dτ</m:t>
                        </m:r>
                      </m:e>
                      <m:sub>
                        <m:r>
                          <m:t xml:space="preserve">ϕ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523880" y="54864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Times New Roman"/>
              </a:rPr>
              <a:t>Со своей стороны, поле определяет магнитную длину и магнитное врем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486400" y="5943600"/>
                <a:ext cx="301464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≈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l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514600" y="5943600"/>
                <a:ext cx="19810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ℏ</m:t>
                            </m:r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7278840" y="5543640"/>
          <a:ext cx="850680" cy="65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78840" y="5543640"/>
                    <a:ext cx="85068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3962520" y="1349280"/>
          <a:ext cx="4876560" cy="467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1349280"/>
                    <a:ext cx="4876560" cy="467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4495680" y="617220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G.Bergmann,</a:t>
            </a: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 Phys.Rep. 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107, </a:t>
            </a: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1 (198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0"/>
            <a:ext cx="79250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99"/>
                </a:solidFill>
                <a:latin typeface="Times New Roman"/>
              </a:rPr>
              <a:t>Разрушение слабой локализации магнитным полем  </a:t>
            </a:r>
            <a:r>
              <a:rPr b="1" lang="en-US" sz="2400" spc="-1" strike="noStrike">
                <a:solidFill>
                  <a:srgbClr val="990099"/>
                </a:solidFill>
                <a:latin typeface="Symbol"/>
                <a:ea typeface="Symbol"/>
              </a:rPr>
              <a:t></a:t>
            </a:r>
            <a:r>
              <a:rPr b="1" lang="en-US" sz="2200" spc="-1" strike="noStrike">
                <a:solidFill>
                  <a:srgbClr val="990099"/>
                </a:solidFill>
                <a:latin typeface="Times New Roman"/>
              </a:rPr>
              <a:t> &lt;&lt;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99"/>
                </a:solidFill>
                <a:latin typeface="Times New Roman"/>
              </a:rPr>
              <a:t>(эксперимент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11430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При вычислении квантовой поправки нужно заменить верхний предел интегрир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219320" y="2514600"/>
                <a:ext cx="116028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τ</m:t>
                        </m:r>
                      </m:sub>
                      <m:sup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ϕ</m:t>
                            </m:r>
                          </m:sub>
                        </m:sSub>
                      </m:sup>
                      <m:e>
                        <m:r>
                          <m:t xml:space="preserve">→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τ</m:t>
                        </m:r>
                      </m:sub>
                      <m:sup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04920" y="3886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Например, при </a:t>
            </a: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d=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80880" y="4495680"/>
                <a:ext cx="312444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σ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Δσ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≈</m:t>
                        </m:r>
                        <m:r>
                          <m:t xml:space="preserve">2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ℏ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ϕ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&lt;&lt;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ϕ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609480" y="838080"/>
          <a:ext cx="8077320" cy="405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838080"/>
                    <a:ext cx="8077320" cy="40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1600200" y="4992840"/>
            <a:ext cx="36576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Д.Ю. Шарвин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,</a:t>
            </a: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 Ю.В. Шарвин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 и др., </a:t>
            </a: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Письма в ЖЭТФ 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34, </a:t>
            </a: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285 (1981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35, </a:t>
            </a: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476 (1982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15000" y="5068800"/>
            <a:ext cx="29718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M.Gijs, C. Van Haesendonck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Y. Bruynseraed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PRB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30,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2964 (1984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52280"/>
            <a:ext cx="7925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99"/>
                </a:solidFill>
                <a:latin typeface="Times New Roman"/>
              </a:rPr>
              <a:t>Магнетосопротивление цилиндрических пленок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20346600">
            <a:off x="227520" y="5714640"/>
            <a:ext cx="1837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Фа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осцилляций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124080" y="152280"/>
            <a:ext cx="2667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99"/>
                </a:solidFill>
                <a:latin typeface="Times New Roman"/>
              </a:rPr>
              <a:t>Антилокализац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685800"/>
            <a:ext cx="9144000" cy="17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Магнитный момент </a:t>
            </a:r>
            <a:r>
              <a:rPr b="1" lang="en-US" sz="2400" spc="-1" strike="noStrike">
                <a:solidFill>
                  <a:srgbClr val="a50021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 движущийся со скоростью  </a:t>
            </a:r>
            <a:r>
              <a:rPr b="1" i="1" lang="en-US" sz="2400" spc="-1" strike="noStrike">
                <a:solidFill>
                  <a:srgbClr val="a50021"/>
                </a:solidFill>
                <a:latin typeface="Times New Roman"/>
              </a:rPr>
              <a:t>v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создает электрическое поле </a:t>
            </a:r>
            <a:r>
              <a:rPr b="1" i="1" lang="ru-RU" sz="2400" spc="-1" strike="noStrike">
                <a:solidFill>
                  <a:srgbClr val="a50021"/>
                </a:solidFill>
                <a:latin typeface="Times New Roman"/>
              </a:rPr>
              <a:t>e </a:t>
            </a:r>
            <a:r>
              <a:rPr b="1" lang="ru-RU" sz="2400" spc="-1" strike="noStrike">
                <a:solidFill>
                  <a:srgbClr val="a50021"/>
                </a:solidFill>
                <a:latin typeface="Symbol"/>
                <a:ea typeface="Symbol"/>
              </a:rPr>
              <a:t></a:t>
            </a:r>
            <a:r>
              <a:rPr b="1" lang="en-US" sz="2400" spc="-1" strike="noStrike">
                <a:solidFill>
                  <a:srgbClr val="a50021"/>
                </a:solidFill>
                <a:latin typeface="Symbol"/>
                <a:ea typeface="Symbol"/>
              </a:rPr>
              <a:t></a:t>
            </a:r>
            <a:r>
              <a:rPr b="1" i="1" lang="en-US" sz="2400" spc="-1" strike="noStrike">
                <a:solidFill>
                  <a:srgbClr val="a50021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a50021"/>
                </a:solidFill>
                <a:latin typeface="Symbol"/>
                <a:ea typeface="Symbol"/>
              </a:rPr>
              <a:t></a:t>
            </a:r>
            <a:r>
              <a:rPr b="1" i="1" lang="ru-RU" sz="2400" spc="-1" strike="noStrike">
                <a:solidFill>
                  <a:srgbClr val="a50021"/>
                </a:solidFill>
                <a:latin typeface="Times New Roman"/>
              </a:rPr>
              <a:t>. 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А в металле есть свои электрические поля (ядра с зарядом </a:t>
            </a:r>
            <a:r>
              <a:rPr b="0" i="1" lang="en-US" sz="2400" spc="-1" strike="noStrike">
                <a:solidFill>
                  <a:srgbClr val="990000"/>
                </a:solidFill>
                <a:latin typeface="Times New Roman"/>
              </a:rPr>
              <a:t>Z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!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).</a:t>
            </a:r>
            <a:r>
              <a:rPr b="0" i="1" lang="ru-RU" sz="1800" spc="-1" strike="noStrike">
                <a:solidFill>
                  <a:srgbClr val="ff0000"/>
                </a:solidFill>
                <a:latin typeface="Times New Roman"/>
              </a:rPr>
              <a:t> Отсюда 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спин-орбитальное взаимодействие</a:t>
            </a:r>
            <a:r>
              <a:rPr b="0" i="1" lang="ru-RU" sz="1800" spc="-1" strike="noStrike">
                <a:solidFill>
                  <a:srgbClr val="ff0000"/>
                </a:solidFill>
                <a:latin typeface="Times New Roman"/>
              </a:rPr>
              <a:t>: на  движущийся  спин  действует  сил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i="1" lang="ru-RU" sz="1800" spc="-1" strike="noStrike">
                <a:solidFill>
                  <a:srgbClr val="008000"/>
                </a:solidFill>
                <a:latin typeface="Times New Roman"/>
              </a:rPr>
              <a:t>Из-за этого взаимодействия есть конечная вероятность  того,  что  при  рассеянии  на</a:t>
            </a:r>
            <a:r>
              <a:rPr b="1" i="1" lang="ru-RU" sz="18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i="1" lang="ru-RU" sz="1800" spc="-1" strike="noStrike" u="sng">
                <a:solidFill>
                  <a:srgbClr val="008000"/>
                </a:solidFill>
                <a:uFillTx/>
                <a:latin typeface="Times New Roman"/>
              </a:rPr>
              <a:t>немагнитной</a:t>
            </a:r>
            <a:r>
              <a:rPr b="0" i="1" lang="ru-RU" sz="1800" spc="-1" strike="noStrike">
                <a:solidFill>
                  <a:srgbClr val="008000"/>
                </a:solidFill>
                <a:latin typeface="Times New Roman"/>
              </a:rPr>
              <a:t>  примеси  произойдет  еще и переворот сп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133720" y="2514600"/>
                <a:ext cx="464796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sSup>
                      <m:e>
                        <m:r>
                          <m:t xml:space="preserve">τ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(</m:t>
                    </m:r>
                    <m:r>
                      <m:t xml:space="preserve">Zα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α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ℏ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13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533520" y="3733920"/>
            <a:ext cx="7010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37339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7339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95680" y="3733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458200" y="35053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458200" y="3581280"/>
            <a:ext cx="533520" cy="45720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0120" y="3505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411480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Волновая функция двух электронов имеет вид столб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438280" y="4648320"/>
                <a:ext cx="4572000" cy="20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1,0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7T18:05:04Z</dcterms:created>
  <dc:creator>Gantmakher</dc:creator>
  <dc:description/>
  <dc:language>en-US</dc:language>
  <cp:lastModifiedBy>Gantmakher</cp:lastModifiedBy>
  <dcterms:modified xsi:type="dcterms:W3CDTF">2006-02-22T18:17:04Z</dcterms:modified>
  <cp:revision>27</cp:revision>
  <dc:subject/>
  <dc:title>Квантовые поправки к проводимости</dc:title>
</cp:coreProperties>
</file>