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4EF-08E8-4EE7-A0F5-36D9ADC1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23E-00A5-4AC9-949E-5AA0D56E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BDF-CBFF-417B-A0B7-154E675A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FB4-C108-40D7-B74D-953A931F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A52-9DB7-4B04-AB22-C9FBDC2F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335-E213-4210-84FD-B6B5F5CA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D78-07A6-4B80-8E30-3BAE1B59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03D-343E-45D6-80E7-0FDC83B1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4F5-248A-4509-8075-61E9D312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A94-9318-4760-97CB-C2633C79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EAB-016B-4D2B-B08B-4237B07D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C02-67D2-4AD0-82BB-29DE4C67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95B1-69D6-4404-AF79-CF5830FC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8195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роводимость 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Symbol"/>
                <a:ea typeface="Symbol"/>
              </a:rPr>
              <a:t>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r>
              <a:rPr b="1" lang="ru-RU" sz="2400" spc="-1" strike="noStrike">
                <a:solidFill>
                  <a:srgbClr val="008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baseline="30000">
                <a:solidFill>
                  <a:srgbClr val="008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m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imes New Roman"/>
              </a:rPr>
              <a:t>2-d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3276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Кондактанс     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Y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r>
              <a:rPr b="1" lang="ru-RU" sz="2400" spc="-1" strike="noStrike">
                <a:solidFill>
                  <a:srgbClr val="008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baseline="30000">
                <a:solidFill>
                  <a:srgbClr val="008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7339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Безразмерный кондактанс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498760" y="4800600"/>
                <a:ext cx="1616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95680" y="4648320"/>
                <a:ext cx="22860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ℏ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286000" y="4572000"/>
            <a:ext cx="4800600" cy="16002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55627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Times New Roman"/>
              </a:rPr>
              <a:t>L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ребро ку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Скейлинговая гипоте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144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Для описания перехода металл-изолятор ?  При Т=0 ?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16002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Корреляционная длина  </a:t>
            </a:r>
            <a:r>
              <a:rPr b="1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</a:t>
            </a:r>
            <a:r>
              <a:rPr b="1" lang="ru-RU" sz="2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lang="ru-RU" sz="2200" spc="-1" strike="noStrike">
                <a:solidFill>
                  <a:srgbClr val="3333cc"/>
                </a:solidFill>
                <a:latin typeface="Symbol"/>
                <a:ea typeface="Symbol"/>
              </a:rPr>
              <a:t></a:t>
            </a:r>
            <a:r>
              <a:rPr b="1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правляющий параметр     Функция состоя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371600"/>
            <a:ext cx="4800600" cy="1447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2971800" y="1905120"/>
          <a:ext cx="472428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05120"/>
                    <a:ext cx="472428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057400" y="152280"/>
            <a:ext cx="4572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вместо перехода </a:t>
            </a:r>
            <a:r>
              <a:rPr b="0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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кроссо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9810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Слабая локал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10280" y="12193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Сильная локал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400440" y="2057400"/>
            <a:ext cx="1219320" cy="99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2819520"/>
            <a:ext cx="228600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609480"/>
            <a:ext cx="647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При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 ~ 1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значения  </a:t>
            </a:r>
            <a:r>
              <a:rPr b="1" i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</a:t>
            </a:r>
            <a:r>
              <a:rPr b="0" i="1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</a:t>
            </a:r>
            <a:r>
              <a:rPr b="0" i="1" lang="ru-RU" sz="2200" spc="-1" strike="noStrike">
                <a:solidFill>
                  <a:srgbClr val="008000"/>
                </a:solidFill>
                <a:latin typeface="Times New Roman"/>
              </a:rPr>
              <a:t> и 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</a:t>
            </a:r>
            <a:r>
              <a:rPr b="0" i="1" lang="ru-RU" sz="2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становятся реальны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54100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5640" y="5181480"/>
            <a:ext cx="40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85800" y="4038480"/>
                <a:ext cx="1295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457200" y="4876920"/>
            <a:ext cx="190512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99"/>
                </a:solidFill>
                <a:latin typeface="Times New Roman"/>
              </a:rPr>
              <a:t>В отличие от </a:t>
            </a:r>
            <a:r>
              <a:rPr b="1" i="1" lang="en-US" sz="1800" spc="-1" strike="noStrike">
                <a:solidFill>
                  <a:srgbClr val="990099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990099"/>
                </a:solidFill>
                <a:latin typeface="Symbol"/>
                <a:ea typeface="Symbol"/>
              </a:rPr>
              <a:t></a:t>
            </a:r>
            <a:r>
              <a:rPr b="1" i="1" lang="en-US" sz="1800" spc="-1" strike="noStrike" baseline="-25000">
                <a:solidFill>
                  <a:srgbClr val="9900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990099"/>
                </a:solidFill>
                <a:latin typeface="Times New Roman"/>
              </a:rPr>
              <a:t>, </a:t>
            </a:r>
            <a:r>
              <a:rPr b="1" i="1" lang="ru-RU" sz="1600" spc="-1" strike="noStrike">
                <a:solidFill>
                  <a:srgbClr val="990099"/>
                </a:solidFill>
                <a:latin typeface="Times New Roman"/>
              </a:rPr>
              <a:t>не содержит экспоненциально малого множите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733920"/>
            <a:ext cx="2209680" cy="2819160"/>
          </a:xfrm>
          <a:prstGeom prst="ellipse">
            <a:avLst/>
          </a:prstGeom>
          <a:noFill/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5257800" y="152280"/>
          <a:ext cx="378468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280"/>
                    <a:ext cx="37846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52280" y="1922400"/>
          <a:ext cx="441972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922400"/>
                    <a:ext cx="441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35800" y="152280"/>
            <a:ext cx="32317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d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= 2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</a:rPr>
              <a:t>эксперимент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601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F.W. van Keuls et al., Phys.Rev. B 56,13263 (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6095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S.-Y.Hsu and J.M.Valles, Jr., Phys.Rev.Lett. 74,2331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2514600"/>
            <a:ext cx="1447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.6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</a:t>
            </a:r>
            <a:r>
              <a:rPr b="0" lang="en-US" sz="18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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572000"/>
            <a:ext cx="1447560" cy="7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6.0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</a:t>
            </a:r>
            <a:r>
              <a:rPr b="0" lang="en-US" sz="18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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18360" y="18288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=1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65880" y="13716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Times New Roman"/>
              </a:rPr>
              <a:t>Подгонка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13600" y="1752480"/>
            <a:ext cx="7617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2780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Пленки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u/Ge, Ag/Ge 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 Au/Ge 0.3-20 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08880" y="5638680"/>
            <a:ext cx="76320" cy="76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2438280" y="1219320"/>
          <a:ext cx="4124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19320"/>
                    <a:ext cx="4124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35800" y="152280"/>
            <a:ext cx="32317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d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= 2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</a:rPr>
              <a:t>эксперимент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6095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Yu.Havin,M.Gershenson, and A.Bogdanov, Phys.Rev. B 58,8009 (19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20574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Слабая локал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105520" y="2743200"/>
            <a:ext cx="2743200" cy="228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3716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Сильная локал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133720"/>
            <a:ext cx="182880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25146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Полоска шириной 500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2514600"/>
            <a:ext cx="75960" cy="763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419720" y="1295280"/>
          <a:ext cx="419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295280"/>
                    <a:ext cx="419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235800" y="152280"/>
            <a:ext cx="32317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d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= 2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</a:rPr>
              <a:t>эксперимент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6095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S.V.Kravchenko, W.E.Mason, G.E.Bowker, et al., Phys.Rev. B 51,7038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43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МОП-структура на поверхности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915400" cy="29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57200" y="1522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Проекция формул слабой локализации на скейлинговую диаграм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400480" y="152280"/>
            <a:ext cx="4343400" cy="398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Спин-орбитальное взаимодейств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3520" y="1963800"/>
          <a:ext cx="3657600" cy="27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63800"/>
                    <a:ext cx="365760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105520" y="2133720"/>
          <a:ext cx="3809880" cy="22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133720"/>
                    <a:ext cx="3809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446200" y="671400"/>
                <a:ext cx="39466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τ</m:t>
                        </m:r>
                      </m:sub>
                      <m:sup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572000" y="4952880"/>
                <a:ext cx="1512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sub>
                      <m:sup/>
                    </m:sSubSup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400800" y="5105520"/>
                <a:ext cx="1765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715000" y="5715000"/>
                <a:ext cx="1077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038480" y="6248520"/>
                <a:ext cx="1901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τ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165320" y="5097600"/>
            <a:ext cx="31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Оценка для точки перехода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6232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Переход не произойдет, е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715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,   т.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4952880"/>
            <a:ext cx="7543800" cy="685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981080" y="1563840"/>
          <a:ext cx="525780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63840"/>
                    <a:ext cx="525780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52280"/>
            <a:ext cx="7924680" cy="48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Times New Roman"/>
              </a:rPr>
              <a:t>Скейлинговая теория перехода металл-изолято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04920" y="998640"/>
          <a:ext cx="434340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8640"/>
                    <a:ext cx="434340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038480" y="914400"/>
            <a:ext cx="358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99"/>
                </a:solidFill>
                <a:latin typeface="Times New Roman"/>
              </a:rPr>
              <a:t>Два возможных предела пр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696080" y="914400"/>
                <a:ext cx="11430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114800" y="1371600"/>
            <a:ext cx="42670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73640" y="17654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.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Металл      </a:t>
            </a:r>
            <a:r>
              <a:rPr b="0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= 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2000" y="2273400"/>
            <a:ext cx="268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onst +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ln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172200" y="2743200"/>
                <a:ext cx="18288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181480" y="33526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I.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золятор      </a:t>
            </a:r>
            <a:r>
              <a:rPr b="0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581280"/>
            <a:ext cx="38088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791320" y="3886200"/>
                <a:ext cx="1317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ξ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91120" y="4495680"/>
                <a:ext cx="47289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57150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Times New Roman"/>
              </a:rPr>
              <a:t>E.Abrahams, P.W.Anderson, D.C.Licciardello, and T.W.Ramakrishnan, Phys.Rev.Lett. 42, 673 (197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7621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Стыковка 2</a:t>
            </a:r>
            <a:r>
              <a:rPr b="1" i="1" lang="en-US" sz="1800" spc="-1" strike="noStrike" baseline="30000">
                <a:solidFill>
                  <a:srgbClr val="993366"/>
                </a:solidFill>
                <a:latin typeface="Times New Roman"/>
              </a:rPr>
              <a:t>d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гиперкубов объемом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 L</a:t>
            </a:r>
            <a:r>
              <a:rPr b="1" i="1" lang="en-US" sz="1800" spc="-1" strike="noStrike" baseline="30000">
                <a:solidFill>
                  <a:srgbClr val="993366"/>
                </a:solidFill>
                <a:latin typeface="Times New Roman"/>
              </a:rPr>
              <a:t>d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каждый в один гиперкуб объемом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 (2L)</a:t>
            </a:r>
            <a:r>
              <a:rPr b="1" i="1" lang="en-US" sz="1800" spc="-1" strike="noStrike" baseline="30000">
                <a:solidFill>
                  <a:srgbClr val="993366"/>
                </a:solidFill>
                <a:latin typeface="Times New Roman"/>
              </a:rPr>
              <a:t>d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447920"/>
            <a:ext cx="60948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1447920"/>
            <a:ext cx="60948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2133720"/>
            <a:ext cx="60948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L</a:t>
            </a:r>
            <a:r>
              <a:rPr b="1" i="1" lang="en-US" sz="1800" spc="-1" strike="noStrike" baseline="30000">
                <a:solidFill>
                  <a:srgbClr val="993366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2209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05740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1905120"/>
            <a:ext cx="457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5320" y="13716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137160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7524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18288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19810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25146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26668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8954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28195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1219320"/>
            <a:ext cx="47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219320"/>
            <a:ext cx="47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17220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400800" y="1981080"/>
                <a:ext cx="1878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δE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 flipH="1" flipV="1">
            <a:off x="7695720" y="4343040"/>
            <a:ext cx="228600" cy="6858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" y="3657600"/>
                <a:ext cx="24256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3505320"/>
                <a:ext cx="46148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198800" y="31384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Times New Roman"/>
              </a:rPr>
              <a:t>По теории возмущ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4876920"/>
            <a:ext cx="1676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Э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вхо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в кри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Андерс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56386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ри изменении размера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изменения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олновых функций зависит от интеграла перекрытия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как и изменения проводим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ассуждения Тауле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5800" y="623880"/>
          <a:ext cx="350532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23880"/>
                    <a:ext cx="350532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35080" y="228600"/>
            <a:ext cx="9169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d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762120"/>
                <a:ext cx="19051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162920" y="685800"/>
                <a:ext cx="16509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38880" y="1447920"/>
                <a:ext cx="14446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724280" y="2209680"/>
                <a:ext cx="29718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7086600" y="304920"/>
            <a:ext cx="1752480" cy="1676160"/>
          </a:xfrm>
          <a:prstGeom prst="rect">
            <a:avLst/>
          </a:prstGeom>
          <a:noFill/>
          <a:ln w="381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380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00"/>
                </a:solidFill>
                <a:latin typeface="Times New Roman"/>
              </a:rPr>
              <a:t>u=</a:t>
            </a:r>
            <a:r>
              <a:rPr b="1" lang="ru-RU" sz="2000" spc="-1" strike="noStrike">
                <a:solidFill>
                  <a:srgbClr val="00cc00"/>
                </a:solidFill>
                <a:latin typeface="Times New Roman"/>
              </a:rPr>
              <a:t>ln </a:t>
            </a:r>
            <a:r>
              <a:rPr b="1" i="1" lang="ru-RU" sz="2000" spc="-1" strike="noStrike">
                <a:solidFill>
                  <a:srgbClr val="00cc00"/>
                </a:solidFill>
                <a:latin typeface="Times New Roman"/>
              </a:rPr>
              <a:t>y,   x=</a:t>
            </a:r>
            <a:r>
              <a:rPr b="1" lang="ru-RU" sz="2000" spc="-1" strike="noStrike">
                <a:solidFill>
                  <a:srgbClr val="00cc00"/>
                </a:solidFill>
                <a:latin typeface="Times New Roman"/>
              </a:rPr>
              <a:t>ln</a:t>
            </a:r>
            <a:r>
              <a:rPr b="1" i="1" lang="ru-RU" sz="2000" spc="-1" strike="noStrike">
                <a:solidFill>
                  <a:srgbClr val="00cc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1447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1752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Times New Roman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505320"/>
            <a:ext cx="5333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 точке     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и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ln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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/y</a:t>
            </a:r>
            <a:r>
              <a:rPr b="1" i="1" lang="en-US" sz="2200" spc="-1" strike="noStrike" baseline="-25000">
                <a:solidFill>
                  <a:srgbClr val="000066"/>
                </a:solidFill>
                <a:latin typeface="Times New Roman"/>
              </a:rPr>
              <a:t>c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= 1/s.   Отсюда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304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Times New Roman"/>
              </a:rPr>
              <a:t>Уравнение прям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2280" y="4343400"/>
                <a:ext cx="28195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105520" y="4214880"/>
                <a:ext cx="12189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657600" y="4343400"/>
            <a:ext cx="914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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162920" y="4191120"/>
                <a:ext cx="14014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04920" y="510552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еличину  </a:t>
            </a:r>
            <a:r>
              <a:rPr b="1" lang="ru-RU" sz="2200" spc="-1" strike="noStrike">
                <a:solidFill>
                  <a:srgbClr val="000066"/>
                </a:solidFill>
                <a:latin typeface="Symbol"/>
                <a:ea typeface="Symbol"/>
              </a:rPr>
              <a:t>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можно выразить через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572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4572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572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7200" y="5554800"/>
                <a:ext cx="22557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≈</m:t>
                    </m:r>
                    <m:r>
                      <m:t xml:space="preserve">λ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λ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2743560" y="59436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т.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581280" y="5715000"/>
                <a:ext cx="15004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ξ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086600" y="4038480"/>
            <a:ext cx="160020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562720"/>
            <a:ext cx="17524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5105520"/>
            <a:ext cx="304920" cy="304560"/>
          </a:xfrm>
          <a:prstGeom prst="downArrow">
            <a:avLst>
              <a:gd name="adj1" fmla="val 20833"/>
              <a:gd name="adj2" fmla="val 27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295960" y="5905440"/>
            <a:ext cx="304560" cy="533520"/>
          </a:xfrm>
          <a:prstGeom prst="downArrow">
            <a:avLst>
              <a:gd name="adj1" fmla="val 20833"/>
              <a:gd name="adj2" fmla="val 3649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5486400"/>
            <a:ext cx="304776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29718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водимость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может быть сколь угодно мал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762120" y="1219320"/>
          <a:ext cx="693396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693396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35080" y="228600"/>
            <a:ext cx="9169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d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952880"/>
            <a:ext cx="769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На диаграмме (х,Т) переход металл-изолятор изображается изолированной точкой, которую можно обой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3581280"/>
            <a:ext cx="19836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5080" y="228600"/>
            <a:ext cx="9169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d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152280"/>
            <a:ext cx="69343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В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критической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области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вблизи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квантового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фазового перехода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не один, а два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масштаба: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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 и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L</a:t>
            </a:r>
            <a:r>
              <a:rPr b="1" i="1" lang="en-US" sz="20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952520" y="990720"/>
            <a:ext cx="1600200" cy="1600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371600" y="1371600"/>
          <a:ext cx="6781680" cy="519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78168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52480" y="228600"/>
            <a:ext cx="6400800" cy="489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Функция </a:t>
            </a:r>
            <a:r>
              <a:rPr b="1" i="1" lang="en-US" sz="2600" spc="-1" strike="noStrike">
                <a:solidFill>
                  <a:srgbClr val="990099"/>
                </a:solidFill>
                <a:latin typeface="Symbol"/>
                <a:ea typeface="Symbol"/>
              </a:rPr>
              <a:t>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(T)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  в  критической  окрес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181480" y="762120"/>
                <a:ext cx="183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467480" y="914400"/>
                <a:ext cx="1465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  <m:r>
                          <m:t xml:space="preserve">ℏ</m:t>
                        </m:r>
                        <m:r>
                          <m:t xml:space="preserve">T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26680" y="990720"/>
            <a:ext cx="434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В металлической области при </a:t>
            </a:r>
            <a:r>
              <a:rPr b="0" i="1" lang="en-US" sz="1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99"/>
                </a:solidFill>
                <a:latin typeface="Times New Roman"/>
              </a:rPr>
              <a:t>Т = 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267080" y="11426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7760" y="1828800"/>
            <a:ext cx="42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В окрестности перехода при </a:t>
            </a:r>
            <a:r>
              <a:rPr b="0" i="1" lang="en-US" sz="1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99"/>
                </a:solidFill>
                <a:latin typeface="Times New Roman"/>
              </a:rPr>
              <a:t>Т = 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629320" y="1612800"/>
                <a:ext cx="10936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752480" y="299736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Интерполяционная формула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486400" y="2819520"/>
                <a:ext cx="19558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ξ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600200" y="2743200"/>
            <a:ext cx="6095880" cy="990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14400" y="4419720"/>
                <a:ext cx="19558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ξ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14400" y="5334120"/>
                <a:ext cx="1303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85800" y="44956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6240" y="6248520"/>
            <a:ext cx="261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Соотношение Эйнштей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5791320"/>
            <a:ext cx="838080" cy="4572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5029200"/>
            <a:ext cx="13716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62520" y="5105520"/>
                <a:ext cx="836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562720" y="4495680"/>
            <a:ext cx="213336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715000" y="4648320"/>
                <a:ext cx="1722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35080" y="228600"/>
            <a:ext cx="9169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d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20760" y="990720"/>
          <a:ext cx="42256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90720"/>
                    <a:ext cx="42256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029200" y="990720"/>
          <a:ext cx="384012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990720"/>
                    <a:ext cx="38401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35800" y="152280"/>
            <a:ext cx="32317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d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= 3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</a:rPr>
              <a:t>эксперимент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019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I.Shlimak, M.Kaveh,R.Ussyshkin, et al., Phys.Rev.Lett. 77,1103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6019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I.Shlimak, M.Kaveh,R.Ussyshkin, et al., Phys.Rev.B 55,1303 (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28800" y="152280"/>
            <a:ext cx="5715000" cy="42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Температурная зависимость 2</a:t>
            </a:r>
            <a:r>
              <a:rPr b="0" lang="en-US" sz="22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ru-RU" sz="22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кондактанс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905120" y="685800"/>
                <a:ext cx="2095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724280" y="1523880"/>
                <a:ext cx="1463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676520" y="1447920"/>
                <a:ext cx="2398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r>
                          <m:t xml:space="preserve">ℏ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038480" y="762120"/>
            <a:ext cx="273240" cy="1463400"/>
          </a:xfrm>
          <a:custGeom>
            <a:avLst/>
            <a:gdLst>
              <a:gd name="textAreaLeft" fmla="*/ 0 w 273240"/>
              <a:gd name="textAreaRight" fmla="*/ 98640 w 273240"/>
              <a:gd name="textAreaTop" fmla="*/ 38160 h 1463400"/>
              <a:gd name="textAreaBottom" fmla="*/ 1425240 h 14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762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Оценка критической температу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629400" y="1676520"/>
                <a:ext cx="21337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152280" y="2697120"/>
            <a:ext cx="731520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Взяв  в  качестве  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L</a:t>
            </a:r>
            <a:r>
              <a:rPr b="1" i="1" lang="en-US" sz="2200" spc="-1" strike="noStrike" baseline="-25000">
                <a:solidFill>
                  <a:srgbClr val="008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длину  межэлектронной  расфазировки, получ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391520" y="2590920"/>
                <a:ext cx="14652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  <m:r>
                          <m:t xml:space="preserve">ℏ</m:t>
                        </m:r>
                        <m:r>
                          <m:t xml:space="preserve">T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2666880" y="3276720"/>
            <a:ext cx="342900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19520" y="3276720"/>
                <a:ext cx="31654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ℏ</m:t>
                    </m:r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304920" y="4495680"/>
            <a:ext cx="8381880" cy="92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Даже не очень большие знач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l ~ 10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приводят к нереально большим значениям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 и нереально малы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5562720"/>
            <a:ext cx="609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Отсюда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«металлические пленки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Ларкин, Хмельницкий, ЖЭТФ 83, 1140 (198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1663560"/>
                <a:ext cx="7765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6:15:58Z</dcterms:created>
  <dc:creator>Gantmakher</dc:creator>
  <dc:description/>
  <dc:language>en-US</dc:language>
  <cp:lastModifiedBy>Gantmakher</cp:lastModifiedBy>
  <dcterms:modified xsi:type="dcterms:W3CDTF">2006-10-18T08:33:44Z</dcterms:modified>
  <cp:revision>26</cp:revision>
  <dc:subject/>
  <dc:title>Заголовок слайда отсутствует</dc:title>
</cp:coreProperties>
</file>