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9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C83-31B2-44B6-837E-7F3A5D1F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1B2-E130-4B5D-B158-05D6EF73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E85-C255-4762-9C10-FE0CCB25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602-EC9E-4F7C-993F-08AC223A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7FE-315A-41E8-8F27-5F93B0F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70C-12A9-40B3-AD16-26AEE14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442-1FCF-4882-87FE-828C2D7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891-83CF-45AB-BB8C-D447E09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8B0-0C38-4102-AF53-F95FC7FC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5CE-9247-4E2E-9CC9-41978ABA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F6D-F204-4371-9B92-C3C5991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E9A-EE6A-463E-9D0D-93C5B7C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C08D-7BFE-42D0-B737-37CF715397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905120"/>
            <a:ext cx="6933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Целочисле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квантовый эффект Хол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5638680"/>
            <a:ext cx="28954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743200" y="4571640"/>
            <a:ext cx="762120" cy="10666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638680" y="4571640"/>
            <a:ext cx="762120" cy="10666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4572000"/>
            <a:ext cx="28954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648320" y="3962160"/>
            <a:ext cx="0" cy="1143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28600" y="3908520"/>
          <a:ext cx="32004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08520"/>
                    <a:ext cx="32004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16080" y="380880"/>
          <a:ext cx="3114360" cy="33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080" y="380880"/>
                    <a:ext cx="31143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28600" y="6216480"/>
            <a:ext cx="4419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G.Ebert, K. von Klitzing, C.Probst, K.Ploog,  Sol. State Comm.44, 95 (1982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5867280"/>
            <a:ext cx="3048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S.Koch, R.J.Hau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K. von Klitzing , K.Ploo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Phys. Rev. B 43, 6828 (1991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4038480"/>
            <a:ext cx="22860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4120" y="1828800"/>
          <a:ext cx="3101760" cy="40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828800"/>
                    <a:ext cx="3101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105520" y="3886200"/>
            <a:ext cx="2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228600"/>
            <a:ext cx="5334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сновные экспериментальные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1. </a:t>
            </a:r>
            <a:r>
              <a:rPr b="0" i="1" lang="ru-RU" sz="2000" spc="-1" strike="noStrike">
                <a:solidFill>
                  <a:srgbClr val="a50021"/>
                </a:solidFill>
                <a:latin typeface="Times New Roman"/>
              </a:rPr>
              <a:t>Точность и воспроизводимость </a:t>
            </a:r>
            <a:r>
              <a:rPr b="0" i="1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a50021"/>
                </a:solidFill>
                <a:latin typeface="Times New Roman"/>
              </a:rPr>
              <a:t>xy</a:t>
            </a:r>
            <a:r>
              <a:rPr b="0" i="1" lang="ru-RU" sz="2000" spc="-1" strike="noStrike">
                <a:solidFill>
                  <a:srgbClr val="a50021"/>
                </a:solidFill>
                <a:latin typeface="Times New Roman"/>
              </a:rPr>
              <a:t> на пла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2.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Относительная протяженность пла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3. </a:t>
            </a:r>
            <a:r>
              <a:rPr b="0" i="1" lang="ru-RU" sz="2000" spc="-1" strike="noStrike">
                <a:solidFill>
                  <a:srgbClr val="800080"/>
                </a:solidFill>
                <a:latin typeface="Times New Roman"/>
              </a:rPr>
              <a:t>Температурная зависимость </a:t>
            </a:r>
            <a:r>
              <a:rPr b="0" i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800080"/>
                </a:solidFill>
                <a:latin typeface="Times New Roman"/>
              </a:rPr>
              <a:t>xx</a:t>
            </a:r>
            <a:r>
              <a:rPr b="0" i="1" lang="en-U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80"/>
                </a:solidFill>
                <a:latin typeface="Times New Roman"/>
              </a:rPr>
              <a:t>на пла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52280" y="914400"/>
          <a:ext cx="624852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624852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8120" y="4191120"/>
          <a:ext cx="4724280" cy="15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91120"/>
                    <a:ext cx="472428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352680" y="2286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Идеальный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2D-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сл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41972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Идеальный 2D-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слой в состоянии изоля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724280"/>
            <a:ext cx="1143000" cy="53352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41148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Локализованный уровень в  неидеальном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2D-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сл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57440" y="4572000"/>
            <a:ext cx="685800" cy="53352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970680" y="463680"/>
                <a:ext cx="1757520" cy="13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629400" y="2286000"/>
                <a:ext cx="23335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n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86000" y="5899320"/>
                <a:ext cx="399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ℏ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m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7129440" cy="2560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4211640" y="1125360"/>
            <a:ext cx="2448000" cy="251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628640"/>
            <a:ext cx="813744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лучайный двумерный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линнопериодный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потенциал превращает плоскос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i="1" lang="ru-RU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ns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холмистый пейзаж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422100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Уровень Фер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33360"/>
            <a:ext cx="38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Все характерные длины случайного потенциала много больше ларморовского радиу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907920"/>
            <a:ext cx="1079640" cy="7207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333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Поэтому электроны движутся по спиралям, навивающимся на эквипотенциа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373720"/>
            <a:ext cx="81374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Уровень Ландау превращается в полосу. Состояния на краях полосы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окализованы вдоль замкнутых эквипотенциалей, но в центре полосы обязательно есть протяженные состояния, расположенные вдоль эквипотенциалей, уходящих на бесконеч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28600" y="1219320"/>
          <a:ext cx="868680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68680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057400" y="4572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Длиннопериодный  случайный потенци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5105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Перколяционная се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819160" y="3200400"/>
            <a:ext cx="685800" cy="182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2971800" y="1066680"/>
          <a:ext cx="541008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066680"/>
                    <a:ext cx="541008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971800" y="3989520"/>
          <a:ext cx="541008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89520"/>
                    <a:ext cx="5410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352680" y="228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Неидеальный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2D-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сл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76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Изменение концентрации нос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267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Изменение магнитного п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067280" y="3933720"/>
                <a:ext cx="1657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3998880" cy="4191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6680" y="533412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Форма двумерной области между холловскими контактами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несуществен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200400" y="1600200"/>
          <a:ext cx="541008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54100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0880" y="1600200"/>
          <a:ext cx="193860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193860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219320" y="2286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отенциал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(или ток),  приложенный  изв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990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Квазиидеальная полоска с двумя контак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9907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Диск  Корби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486400" y="2362320"/>
            <a:ext cx="990720" cy="1218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3505320"/>
            <a:ext cx="327672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Эквипотенциа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(обычно вдоль них течет холловский то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479600" y="5284800"/>
                <a:ext cx="62625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33520" y="4800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 пла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90720" y="1752480"/>
          <a:ext cx="655308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55308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24852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920"/>
            <a:ext cx="74674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оки текут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</a:rPr>
              <a:t>либо по краевым каналам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</a:rPr>
              <a:t>либо вдоль эквипотенциалей 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од</a:t>
            </a:r>
            <a:r>
              <a:rPr b="1" i="1" lang="ru-RU" sz="2200" spc="-1" strike="noStrike">
                <a:solidFill>
                  <a:srgbClr val="0000cc"/>
                </a:solidFill>
                <a:latin typeface="Times New Roman"/>
              </a:rPr>
              <a:t> уровнем Фер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495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На самом деле происходит распределение токов между краем и объемом в зависимости от рассе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5235480"/>
          <a:ext cx="464796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235480"/>
                    <a:ext cx="46479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15228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Температурная зависимость продольной проводи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в режиме квантового эффекта Холла (т.е. на плат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16440" y="5867280"/>
            <a:ext cx="218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aAs – Al</a:t>
            </a:r>
            <a:r>
              <a:rPr b="1" i="1" lang="en-US" sz="20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a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743200" y="102384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43080" y="6324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. Stahl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D. Weiss, G. Weimann, 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K. von Klitzing, K.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Ploog,  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 Phys. C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8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L783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(198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28880" y="1828800"/>
          <a:ext cx="708660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828800"/>
                    <a:ext cx="70866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57200" y="1828800"/>
          <a:ext cx="373392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37339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04920" y="5791320"/>
            <a:ext cx="426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D.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C.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 Tsui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.L. St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ö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rmer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A.C. Gossard Phys. Rev. B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25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 1405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(1982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5791320"/>
            <a:ext cx="426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G.Ebert, K. von Klitzing, C.Probst, 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et al.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,  Sol. State Comm.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62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5 (198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268960" y="1828800"/>
          <a:ext cx="3217680" cy="37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8960" y="1828800"/>
                    <a:ext cx="32176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095880" y="4038480"/>
            <a:ext cx="129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Режим Эфроса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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Шклов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92104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Times New Roman"/>
              </a:rPr>
              <a:t>Режим Мот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мпературная зависимость продольной проводи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режиме квантового эффекта Холла (продолж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79760" y="1219320"/>
            <a:ext cx="218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aAs – Al</a:t>
            </a:r>
            <a:r>
              <a:rPr b="1" i="1" lang="en-US" sz="20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a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2000" y="838080"/>
          <a:ext cx="42004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838080"/>
                    <a:ext cx="4200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0880" y="3505320"/>
            <a:ext cx="1828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В сильном магнитном поле электрон локализован в окрестности своей классической орби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057400" y="2438280"/>
            <a:ext cx="685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53352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Электрон дрейфует поперек электрического поля, а вдоль поля смещается только при наличии рассе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2243160" y="762120"/>
          <a:ext cx="465768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762120"/>
                    <a:ext cx="46576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219320" y="152280"/>
            <a:ext cx="670536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Цепочки фазовых перехо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5943600"/>
            <a:ext cx="426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M.A. Paalanen, D.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C.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 Tsui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A.C. Gossard, Phys. Rev. B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25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, 5566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 (1982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33720" y="152280"/>
            <a:ext cx="48765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Всплывание уровн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Times New Roman"/>
              </a:rPr>
              <a:t>Д.Е. Хмельницкий,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Phys. Lett.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106A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, 182 (19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81280" y="1066680"/>
                <a:ext cx="19051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57200" y="1990800"/>
                <a:ext cx="266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410080" y="2057400"/>
                <a:ext cx="2703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 flipV="1">
            <a:off x="1905120" y="1523880"/>
            <a:ext cx="1676160" cy="457200"/>
          </a:xfrm>
          <a:prstGeom prst="line">
            <a:avLst/>
          </a:prstGeom>
          <a:ln w="1908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800240" y="1523880"/>
            <a:ext cx="2133720" cy="53352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004760" y="3429000"/>
                <a:ext cx="61423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Ω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51200" y="2746440"/>
                <a:ext cx="1212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e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 rot="3055200">
            <a:off x="4739040" y="3507480"/>
            <a:ext cx="1092240" cy="173160"/>
          </a:xfrm>
          <a:prstGeom prst="rightArrow">
            <a:avLst>
              <a:gd name="adj1" fmla="val 50000"/>
              <a:gd name="adj2" fmla="val 15769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6019560" y="34282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71800" y="4114440"/>
            <a:ext cx="1523880" cy="609480"/>
          </a:xfrm>
          <a:prstGeom prst="line">
            <a:avLst/>
          </a:prstGeom>
          <a:ln w="1908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4197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Количество заполненных протяженных состояний (минизон Ланда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44956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Times New Roman"/>
              </a:rPr>
              <a:t>Эффективное количество состояний в каждой из минизон, у которой есть заполненное протяженное состоя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90680" y="5562720"/>
            <a:ext cx="636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Пр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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локализованные состояния верхних минизон «просачиваются» под протяженные состояния нижн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миниз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43240" y="5638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12952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33"/>
                </a:solidFill>
                <a:latin typeface="Times New Roman"/>
              </a:rPr>
              <a:t>В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2D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339933"/>
                </a:solidFill>
                <a:latin typeface="Times New Roman"/>
              </a:rPr>
              <a:t>системах уровень Ферми пропорционален концентрации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152280"/>
            <a:ext cx="4876560" cy="4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Всплывание уровней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590920"/>
            <a:ext cx="7467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33"/>
                </a:solidFill>
                <a:latin typeface="Times New Roman"/>
              </a:rPr>
              <a:t>Поэтому для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ru-RU" sz="2000" spc="-1" strike="noStrike">
                <a:solidFill>
                  <a:srgbClr val="339933"/>
                </a:solidFill>
                <a:latin typeface="Times New Roman"/>
              </a:rPr>
              <a:t>-того протяженного состояния </a:t>
            </a:r>
            <a:r>
              <a:rPr b="1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</a:t>
            </a:r>
            <a:r>
              <a:rPr b="1" lang="ru-RU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9810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Times New Roman"/>
              </a:rPr>
              <a:t>Например, в идеальн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990099"/>
                </a:solidFill>
                <a:latin typeface="Times New Roman"/>
              </a:rPr>
              <a:t>системе без магнитного по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705720" y="1822320"/>
                <a:ext cx="18288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1" name=""/>
          <p:cNvGraphicFramePr/>
          <p:nvPr/>
        </p:nvGraphicFramePr>
        <p:xfrm>
          <a:off x="4267080" y="3781440"/>
          <a:ext cx="449604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781440"/>
                    <a:ext cx="449604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39680" y="3124080"/>
                <a:ext cx="41212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ℏ</m:t>
                    </m:r>
                    <m:r>
                      <m:t xml:space="preserve">Ω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 rot="16200000">
            <a:off x="2286000" y="327600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3"/>
                </a:lnTo>
                <a:cubicBezTo>
                  <a:pt x="10800" y="9873"/>
                  <a:pt x="5400" y="10773"/>
                  <a:pt x="0" y="10773"/>
                </a:cubicBezTo>
                <a:cubicBezTo>
                  <a:pt x="5400" y="10773"/>
                  <a:pt x="10800" y="11673"/>
                  <a:pt x="10800" y="1257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9625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Symbol"/>
                <a:ea typeface="Symbol"/>
              </a:rPr>
              <a:t>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cc0000"/>
                </a:solidFill>
                <a:latin typeface="Symbol"/>
                <a:ea typeface="Symbol"/>
              </a:rPr>
              <a:t>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cc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362320" y="4571280"/>
            <a:ext cx="3047760" cy="1143000"/>
          </a:xfrm>
          <a:custGeom>
            <a:avLst/>
            <a:gdLst>
              <a:gd name="textAreaLeft" fmla="*/ 0 w 3047760"/>
              <a:gd name="textAreaRight" fmla="*/ 3048120 w 304776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60" stAng="10800000" swAng="5400000"/>
                <a:lnTo>
                  <a:pt x="18506" y="5100"/>
                </a:lnTo>
                <a:lnTo>
                  <a:pt x="18506" y="0"/>
                </a:lnTo>
                <a:lnTo>
                  <a:pt x="21600" y="6079"/>
                </a:lnTo>
                <a:lnTo>
                  <a:pt x="18506" y="12158"/>
                </a:lnTo>
                <a:lnTo>
                  <a:pt x="18506" y="7058"/>
                </a:lnTo>
                <a:lnTo>
                  <a:pt x="12427" y="7058"/>
                </a:lnTo>
                <a:arcTo wR="10469" hR="5102" stAng="16200000" swAng="-5400000"/>
                <a:lnTo>
                  <a:pt x="1958" y="216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657600" y="1143000"/>
          <a:ext cx="529128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52912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228600" y="838080"/>
          <a:ext cx="3197160" cy="41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838080"/>
                    <a:ext cx="3197160" cy="41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133720" y="152280"/>
            <a:ext cx="4876560" cy="4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Всплывание уровней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Эксперимен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2578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I. Glozman, C.E. Johnson,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 and  H.W.Jiang,  Phys. Rev. Lett. 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74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, 594 (1995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828800" y="880920"/>
          <a:ext cx="5334120" cy="38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80920"/>
                    <a:ext cx="533412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133720" y="152280"/>
            <a:ext cx="4876560" cy="4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Всплывание уровней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Эксперимен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M. Hilke, D. Shahar, S.H. Song, D.C. Tsui,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 and  Y.H.Xie,  Phys. Rev. B 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62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, 6940 (2000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1278000"/>
          <a:ext cx="8458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458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2209680" y="228600"/>
            <a:ext cx="405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Двухпараметрический  скейлин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838080" y="1752480"/>
          <a:ext cx="3962520" cy="26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396252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562720" y="1676520"/>
          <a:ext cx="2778120" cy="32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676520"/>
                    <a:ext cx="277812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14300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12760" y="1219320"/>
                <a:ext cx="10508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 flipH="1">
            <a:off x="1676160" y="1219320"/>
            <a:ext cx="7452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219320"/>
            <a:ext cx="7488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63840" y="990720"/>
                <a:ext cx="2185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124080" y="10666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43600" y="1143000"/>
                <a:ext cx="11206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315200" y="1143000"/>
                <a:ext cx="1143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082520" y="251460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43000" y="2590920"/>
                <a:ext cx="1022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 flipH="1">
            <a:off x="1768320" y="2590920"/>
            <a:ext cx="7488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44640" y="2590920"/>
            <a:ext cx="7452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286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52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Тензоры  проводимости  и  сопроти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3623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29000" y="2286000"/>
                <a:ext cx="2057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40440" y="2514600"/>
                <a:ext cx="1079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335720" y="2514600"/>
                <a:ext cx="1101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3880" y="4191120"/>
            <a:ext cx="609624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4495680"/>
                <a:ext cx="18288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81480" y="4383000"/>
                <a:ext cx="1905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228600"/>
            <a:ext cx="5790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лассическое движение в магнитном п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05080" y="1447920"/>
                <a:ext cx="27432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B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eE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v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382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189080"/>
            <a:ext cx="2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1371600"/>
            <a:ext cx="2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1295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9144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Уравнение движения с трением и с усреднением по врем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06440" y="4267080"/>
                <a:ext cx="1001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92240" y="40384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95320" y="2133720"/>
                <a:ext cx="1981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886040" y="2895480"/>
            <a:ext cx="2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2681280"/>
            <a:ext cx="2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7440" y="20574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5320" y="19051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1337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990720"/>
            <a:ext cx="0" cy="838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619760" y="1855800"/>
            <a:ext cx="456840" cy="403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182880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4200" y="9144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6800" y="1828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89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9144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1447920"/>
                <a:ext cx="888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523880" y="3962520"/>
            <a:ext cx="4419720" cy="190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76520" y="4114800"/>
                <a:ext cx="18288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τ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τ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962520" y="4572000"/>
                <a:ext cx="170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876920" y="2514600"/>
                <a:ext cx="1757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τ</m:t>
                        </m:r>
                        <m:r>
                          <m:t xml:space="preserve">m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781520" y="2590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743200"/>
            <a:ext cx="1371600" cy="533520"/>
          </a:xfrm>
          <a:prstGeom prst="rightArrow">
            <a:avLst>
              <a:gd name="adj1" fmla="val 12500"/>
              <a:gd name="adj2" fmla="val 392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0880" y="5105520"/>
                <a:ext cx="890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H="1">
            <a:off x="786960" y="5105520"/>
            <a:ext cx="7452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3640" y="5105520"/>
            <a:ext cx="7452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581280"/>
            <a:ext cx="2286000" cy="2667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3886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58000" y="5105520"/>
                <a:ext cx="1952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4495680"/>
                <a:ext cx="914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96080" y="3886200"/>
                <a:ext cx="1163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τ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447920" y="2133720"/>
          <a:ext cx="19555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1955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867280" y="2209680"/>
          <a:ext cx="2732040" cy="22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9680"/>
                    <a:ext cx="27320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228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Продольная проводимость возникает в результате рассеяния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295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... в объем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... или вдоль поверх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943600"/>
            <a:ext cx="3429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981080"/>
            <a:ext cx="3200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648320" y="1066680"/>
          <a:ext cx="423072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066680"/>
                    <a:ext cx="423072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09680" y="228600"/>
            <a:ext cx="5486400" cy="42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Магнитное и размерное квант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990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371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9000" y="99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33520" y="380520"/>
            <a:ext cx="0" cy="6858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371600" y="99072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80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3440" y="1447920"/>
                <a:ext cx="4092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/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N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52280" y="2209680"/>
            <a:ext cx="43434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Times New Roman"/>
              </a:rPr>
              <a:t>Вырожденность  все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Times New Roman"/>
              </a:rPr>
              <a:t>(N, N</a:t>
            </a:r>
            <a:r>
              <a:rPr b="0" i="1" lang="ru-RU" sz="2200" spc="-1" strike="noStrike" baseline="-25000">
                <a:solidFill>
                  <a:srgbClr val="cc0000"/>
                </a:solidFill>
                <a:latin typeface="Times New Roman"/>
              </a:rPr>
              <a:t>z </a:t>
            </a:r>
            <a:r>
              <a:rPr b="0" i="1" lang="ru-RU" sz="2200" spc="-1" strike="noStrike">
                <a:solidFill>
                  <a:srgbClr val="cc0000"/>
                </a:solidFill>
                <a:latin typeface="Times New Roman"/>
              </a:rPr>
              <a:t>)-</a:t>
            </a:r>
            <a:r>
              <a:rPr b="0" i="1" lang="ru-RU" sz="2000" spc="-1" strike="noStrike">
                <a:solidFill>
                  <a:srgbClr val="cc0000"/>
                </a:solidFill>
                <a:latin typeface="Times New Roman"/>
              </a:rPr>
              <a:t>уровней  одинакова  и  ра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25560" y="2895480"/>
                <a:ext cx="27194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e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228600" y="3886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Число занятых уров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505320" y="4038480"/>
                <a:ext cx="2230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228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В пол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124080" y="5029200"/>
                <a:ext cx="3438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b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04920" y="59436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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= i </a:t>
            </a:r>
            <a:r>
              <a:rPr b="0" i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целые числа и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се занятые уровни заполнены полност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5562720" y="2286000"/>
          <a:ext cx="320040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32004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62120" y="914400"/>
          <a:ext cx="3628800" cy="24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14400"/>
                    <a:ext cx="3628800" cy="24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 flipV="1">
            <a:off x="2895480" y="2779200"/>
            <a:ext cx="304920" cy="3812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19520" y="2017800"/>
            <a:ext cx="380880" cy="7617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286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Влияние края на энергию 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2D-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электрона в магнитном по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9240" y="17524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760" y="2514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6960" y="25909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N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760" y="2971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N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 rot="10800000">
          <a:off x="1676520" y="3886200"/>
          <a:ext cx="200484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1676520" y="3886200"/>
                    <a:ext cx="2004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rot="18186000">
            <a:off x="2876760" y="3696840"/>
            <a:ext cx="647640" cy="158400"/>
          </a:xfrm>
          <a:prstGeom prst="rightArrow">
            <a:avLst>
              <a:gd name="adj1" fmla="val 50000"/>
              <a:gd name="adj2" fmla="val 1022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0384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8186000">
            <a:off x="898560" y="3673080"/>
            <a:ext cx="647640" cy="158760"/>
          </a:xfrm>
          <a:prstGeom prst="rightArrow">
            <a:avLst>
              <a:gd name="adj1" fmla="val 50000"/>
              <a:gd name="adj2" fmla="val 10198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90720" y="3962520"/>
          <a:ext cx="3429000" cy="24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2520"/>
                    <a:ext cx="34290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364440" y="4114800"/>
          <a:ext cx="1841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440" y="4114800"/>
                    <a:ext cx="1841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447920" y="34290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Холловский мост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Диск Корби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65400" y="6248520"/>
            <a:ext cx="120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Times New Roman"/>
              </a:rPr>
              <a:t>x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617220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67280" y="914400"/>
          <a:ext cx="2579760" cy="16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914400"/>
                    <a:ext cx="25797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85800" y="914400"/>
          <a:ext cx="4419720" cy="166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914400"/>
                    <a:ext cx="44197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057400" y="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Основные двумерные системы:  пленки и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Times New Roman"/>
              </a:rPr>
              <a:t>... гетерострук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Times New Roman"/>
              </a:rPr>
              <a:t>... МОП-струк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048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Основные измерительные конфигу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410080" y="1217520"/>
          <a:ext cx="33530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7520"/>
                    <a:ext cx="33530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57200" y="380880"/>
          <a:ext cx="4343400" cy="39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43434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4419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K. von Klitzing, C. Probst  and  M. Pepper,  Phys. Rev. Lett. 45, 494 (1980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228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Нобелевская р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5029200"/>
                <a:ext cx="2209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56:54Z</dcterms:created>
  <dc:creator>Gantmakher</dc:creator>
  <dc:description/>
  <dc:language>en-US</dc:language>
  <cp:lastModifiedBy>Gantmakher</cp:lastModifiedBy>
  <dcterms:modified xsi:type="dcterms:W3CDTF">2006-10-25T15:45:24Z</dcterms:modified>
  <cp:revision>41</cp:revision>
  <dc:subject/>
  <dc:title>Презентация PowerPoint</dc:title>
</cp:coreProperties>
</file>