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png" ContentType="image/png"/>
  <Override PartName="/ppt/media/image2.wmf" ContentType="image/x-wmf"/>
  <Override PartName="/ppt/media/image4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BFE3-CFAD-4F3F-973F-5B48C857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9054-C4D9-4698-8DAB-A931A7BA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E0B3-DCE7-4832-85E6-DFC452CF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2976-F7D1-48C8-8B54-C46ACCFB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DE60-A858-47A6-B8E7-60E4D437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C358-708A-4A40-BD82-52FF60E0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8063-C581-4EA1-A587-6C763C3B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6FE4-D69D-4075-97D7-349A1B9A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652-6385-4A6B-998D-11CC6EDE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0D7F-2F1B-4920-BAF1-CDED0F6A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89E-33F8-464D-90FB-C606FB23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984-B855-415C-9B12-392DFF12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276F-E408-41F8-8836-185E648B63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62320" y="1752480"/>
          <a:ext cx="502920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52480"/>
                    <a:ext cx="502920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209680" y="152280"/>
            <a:ext cx="4953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имическая локал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6094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(Переход металл-изолятор в электронной систем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с большой плотностью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248520" y="3429000"/>
            <a:ext cx="30456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3429000"/>
            <a:ext cx="30456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2920" y="3429000"/>
            <a:ext cx="30456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4191120"/>
            <a:ext cx="30456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4191120"/>
            <a:ext cx="30456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4572000"/>
            <a:ext cx="15264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10280" y="4572000"/>
            <a:ext cx="15264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553080" y="3428640"/>
            <a:ext cx="1800" cy="11430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705720" y="3428640"/>
            <a:ext cx="1440" cy="11430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010280" y="3428640"/>
            <a:ext cx="1800" cy="11430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162920" y="3428640"/>
            <a:ext cx="1440" cy="11430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4038480"/>
            <a:ext cx="1066680" cy="0"/>
          </a:xfrm>
          <a:prstGeom prst="line">
            <a:avLst/>
          </a:prstGeom>
          <a:ln w="1260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4343400"/>
            <a:ext cx="1066680" cy="0"/>
          </a:xfrm>
          <a:prstGeom prst="line">
            <a:avLst/>
          </a:prstGeom>
          <a:ln w="1260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403848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397160"/>
            <a:ext cx="678204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238880" y="4800600"/>
                <a:ext cx="14479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6629400" y="4191120"/>
            <a:ext cx="1219320" cy="914400"/>
          </a:xfrm>
          <a:custGeom>
            <a:avLst/>
            <a:gdLst/>
            <a:ahLst/>
            <a:rect l="l" t="t" r="r" b="b"/>
            <a:pathLst>
              <a:path w="768" h="576">
                <a:moveTo>
                  <a:pt x="544" y="0"/>
                </a:moveTo>
                <a:cubicBezTo>
                  <a:pt x="656" y="12"/>
                  <a:pt x="768" y="24"/>
                  <a:pt x="688" y="96"/>
                </a:cubicBezTo>
                <a:cubicBezTo>
                  <a:pt x="608" y="168"/>
                  <a:pt x="128" y="352"/>
                  <a:pt x="64" y="432"/>
                </a:cubicBezTo>
                <a:cubicBezTo>
                  <a:pt x="0" y="512"/>
                  <a:pt x="264" y="552"/>
                  <a:pt x="304" y="57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2600" y="330120"/>
            <a:ext cx="87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Модель структурного беспорядка (модель Лифшица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72320" y="2743200"/>
            <a:ext cx="20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Резонансные я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3276720"/>
            <a:ext cx="4191120" cy="3124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3520" y="3429000"/>
          <a:ext cx="403848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29000"/>
                    <a:ext cx="403848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257800" y="6019920"/>
                <a:ext cx="12193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  <m:r>
                      <m:t xml:space="preserve">≈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347760" y="1092240"/>
            <a:ext cx="8329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случайное расположение идентичных я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нет длиннопериодного потенциа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уширение за счет квантового взаимодействия между ямами</a:t>
            </a:r>
            <a:r>
              <a:rPr b="0" i="1" lang="en-US" sz="26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371600" y="2590920"/>
                <a:ext cx="22096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-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152280" y="914400"/>
          <a:ext cx="3092400" cy="31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309240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876920" y="838080"/>
          <a:ext cx="3855960" cy="474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838080"/>
                    <a:ext cx="38559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833920" y="95400"/>
            <a:ext cx="30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Квазикристал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4572000"/>
            <a:ext cx="411480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 малого числа</a:t>
            </a:r>
            <a:r>
              <a:rPr b="0" lang="en-US" sz="2000" spc="-1" strike="noStrike">
                <a:solidFill>
                  <a:srgbClr val="000000"/>
                </a:solidFill>
                <a:latin typeface="AdvTimes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AdvTimes"/>
              </a:rPr>
              <a:t>n+m+p</a:t>
            </a:r>
            <a:r>
              <a:rPr b="0" lang="ru-RU" sz="2000" spc="-1" strike="noStrike">
                <a:solidFill>
                  <a:srgbClr val="000000"/>
                </a:solidFill>
                <a:latin typeface="AdvTime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омов</a:t>
            </a:r>
            <a:r>
              <a:rPr b="0" lang="ru-RU" sz="2000" spc="-1" strike="noStrike">
                <a:solidFill>
                  <a:srgbClr val="000000"/>
                </a:solidFill>
                <a:latin typeface="AdvTime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dvTimes-i"/>
              </a:rPr>
              <a:t>A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AdvTimes-i"/>
              </a:rPr>
              <a:t>n</a:t>
            </a:r>
            <a:r>
              <a:rPr b="1" lang="ru-RU" sz="2000" spc="-1" strike="noStrike">
                <a:solidFill>
                  <a:srgbClr val="000099"/>
                </a:solidFill>
                <a:latin typeface="AdvTimes-i"/>
              </a:rPr>
              <a:t>B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AdvTimes-i"/>
              </a:rPr>
              <a:t>m</a:t>
            </a:r>
            <a:r>
              <a:rPr b="1" lang="ru-RU" sz="2000" spc="-1" strike="noStrike">
                <a:solidFill>
                  <a:srgbClr val="000099"/>
                </a:solidFill>
                <a:latin typeface="AdvTimes-i"/>
              </a:rPr>
              <a:t>C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AdvTimes-i"/>
              </a:rPr>
              <a:t>p</a:t>
            </a:r>
            <a:r>
              <a:rPr b="0" lang="ru-RU" sz="2000" spc="-1" strike="noStrike">
                <a:solidFill>
                  <a:srgbClr val="000099"/>
                </a:solidFill>
                <a:latin typeface="AdvTime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птимальная локальная конфигурация может иметь ось симметрии 5 поряд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21289200">
            <a:off x="304560" y="3962520"/>
            <a:ext cx="1530360" cy="1376280"/>
          </a:xfrm>
          <a:custGeom>
            <a:avLst/>
            <a:gdLst/>
            <a:ahLst/>
            <a:rect l="l" t="t" r="r" b="b"/>
            <a:pathLst>
              <a:path w="872" h="768">
                <a:moveTo>
                  <a:pt x="872" y="768"/>
                </a:moveTo>
                <a:cubicBezTo>
                  <a:pt x="540" y="736"/>
                  <a:pt x="208" y="704"/>
                  <a:pt x="104" y="576"/>
                </a:cubicBezTo>
                <a:cubicBezTo>
                  <a:pt x="0" y="448"/>
                  <a:pt x="224" y="96"/>
                  <a:pt x="24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61080" y="58816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39040" y="5894280"/>
            <a:ext cx="431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Трансляционной симметри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можно пожертвов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6629400" y="914400"/>
          <a:ext cx="194616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914400"/>
                    <a:ext cx="19461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2622960" y="380880"/>
            <a:ext cx="200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7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n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33600" y="129528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азисная локальная конфигур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держит 3 оболочки с 51 атом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04600" y="2362320"/>
            <a:ext cx="27316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.Jan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.Rev. 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181 (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3886200"/>
            <a:ext cx="5486400" cy="253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м выше качество квазикристал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м больше сопротивл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31960" y="4419720"/>
            <a:ext cx="3257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определенное по рентгену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54920" y="5410080"/>
            <a:ext cx="3452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противоречит все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ыту физики метал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30120" y="1066680"/>
            <a:ext cx="554040" cy="353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9 at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4572000" y="1523880"/>
          <a:ext cx="351324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523880"/>
                    <a:ext cx="351324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3043080" y="152280"/>
            <a:ext cx="219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7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2.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5867280"/>
            <a:ext cx="643896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.R.Wang, S.T.Lin, et 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.Phys.Soc.Jpn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2383 (1998);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3988 (1999);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3356 (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8376000">
            <a:off x="2474640" y="3655800"/>
            <a:ext cx="898560" cy="230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838080" y="1371600"/>
          <a:ext cx="2640240" cy="420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371600"/>
                    <a:ext cx="264024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2590920" y="2133720"/>
            <a:ext cx="1440" cy="2528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9520" y="838080"/>
            <a:ext cx="879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Отжиг делает Брегговские рефлексы острее, а сопротивление выш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19051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581280" y="15228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езю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762120"/>
            <a:ext cx="8534160" cy="2209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В электронных системах с высокой плотностью  возможна двухступенчатая локализация: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(a)  большая часть носителей попадает в ловушки в “квазихимические квантовые точки;”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(b)  оставшаяся делокализованной меньшая часть  претерпевает обычный переход металл-изолято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3352680"/>
            <a:ext cx="853452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ва примера материалов с таким поведением электронов это бинарные металлические расплавы и квазикристал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4876920"/>
            <a:ext cx="8610480" cy="1218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писывая электронный транспорт в квазикристаллах, следует исходить не из плоских волн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p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r)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а из локализованных волновых функ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52280" y="990720"/>
          <a:ext cx="312264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90720"/>
                    <a:ext cx="31226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457200" y="5562720"/>
            <a:ext cx="304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P.P.Edwards and M.J.Sien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PRB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17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, 2575  (197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4419720"/>
            <a:ext cx="6858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1840" y="4446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24400" y="518148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cc00cc"/>
                </a:solidFill>
                <a:latin typeface="Times New Roman"/>
              </a:rPr>
              <a:t>Стандартные” металлы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5867280"/>
            <a:ext cx="4038480" cy="533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724280" y="5956200"/>
                <a:ext cx="12956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5869080" y="5867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5943600"/>
            <a:ext cx="759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477120" y="5943600"/>
                <a:ext cx="19810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4267080" y="525780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3581280" y="5105160"/>
            <a:ext cx="609840" cy="68580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762120"/>
            <a:ext cx="5029200" cy="358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914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лан ле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1447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Общие сообр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86200" y="2057400"/>
            <a:ext cx="525780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металлические соеди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вухкомпонентных расплав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2971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ь структурного беспоряд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358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вазикристал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0" y="5867280"/>
            <a:ext cx="387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ma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~ 200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÷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00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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5160" y="4800600"/>
            <a:ext cx="43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cc"/>
                </a:solidFill>
                <a:latin typeface="Times New Roman"/>
              </a:rPr>
              <a:t>В “стандартном” метал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876920" y="4813200"/>
                <a:ext cx="12952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6021360" y="4724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48006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629400" y="4800600"/>
                <a:ext cx="19810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033640" y="398520"/>
                <a:ext cx="40878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l</m:t>
                        </m:r>
                      </m:num>
                      <m:den>
                        <m:r>
                          <m:t xml:space="preserve">ℏ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ℏ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62120" y="1981080"/>
                <a:ext cx="9666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 flipV="1">
            <a:off x="1828800" y="1371240"/>
            <a:ext cx="914400" cy="7621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63680" y="31147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133720" y="3124080"/>
                <a:ext cx="15620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137120" y="2884320"/>
                <a:ext cx="1976400" cy="10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ℏ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3963960" y="5334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cc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717640" y="1600200"/>
                <a:ext cx="2795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  <m:bar>
                          <m:barPr>
                            <m:pos m:val="top"/>
                          </m:barPr>
                          <m:e>
                            <m:r>
                              <m:t xml:space="preserve">H</m:t>
                            </m:r>
                          </m:e>
                        </m:ba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r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486400" y="1676520"/>
                <a:ext cx="1447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7010280" y="167652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интегра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перекрыт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52480" y="533520"/>
                <a:ext cx="1219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r>
                          <m:t xml:space="preserve">n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2971800" y="380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208320" y="217440"/>
                <a:ext cx="20448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d</m:t>
                                </m:r>
                              </m:sub>
                            </m:sSub>
                            <m:r>
                              <m:t xml:space="preserve">W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208320" y="914400"/>
                <a:ext cx="20448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ott</m:t>
                                </m:r>
                              </m:sub>
                            </m:sSub>
                            <m:r>
                              <m:t xml:space="preserve">U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5621040" y="243000"/>
            <a:ext cx="22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Переход Андерс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3920" y="91440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Переход Мот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266688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28600" y="1600200"/>
                <a:ext cx="2057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κ</m:t>
                    </m:r>
                    <m:sSup>
                      <m:e>
                        <m:r>
                          <m:t xml:space="preserve">ℏ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/</m:t>
                    </m:r>
                    <m:sSup>
                      <m:e>
                        <m:r>
                          <m:t xml:space="preserve">m</m:t>
                        </m:r>
                      </m:e>
                      <m:sup/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2135160" y="1600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2963880"/>
            <a:ext cx="3429000" cy="342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638680" y="3048120"/>
          <a:ext cx="3353040" cy="32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048120"/>
                    <a:ext cx="3353040" cy="32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990720" y="4191120"/>
            <a:ext cx="3276360" cy="2666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f9mit" descr=""/>
          <p:cNvPicPr/>
          <p:nvPr/>
        </p:nvPicPr>
        <p:blipFill>
          <a:blip r:embed="rId3"/>
          <a:stretch/>
        </p:blipFill>
        <p:spPr>
          <a:xfrm>
            <a:off x="1523880" y="4413240"/>
            <a:ext cx="2260800" cy="2022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90720" y="4870440"/>
            <a:ext cx="457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5556240"/>
            <a:ext cx="457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487044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6165720"/>
            <a:ext cx="838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2160" y="5022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1040" y="6121440"/>
            <a:ext cx="94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ot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ansi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09680"/>
            <a:ext cx="5334120" cy="1828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-990720" y="2286000"/>
            <a:ext cx="6248520" cy="1681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191120" y="2666880"/>
            <a:ext cx="0" cy="106704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2743200"/>
            <a:ext cx="380880" cy="38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2920" y="281952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2792520"/>
            <a:ext cx="6858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5960" y="2819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80880" y="380880"/>
          <a:ext cx="24321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24321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57200" y="3809880"/>
          <a:ext cx="237636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9880"/>
                    <a:ext cx="237636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352680" y="1752480"/>
          <a:ext cx="5643720" cy="388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1752480"/>
                    <a:ext cx="5643720" cy="38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809880" y="152280"/>
            <a:ext cx="4191120" cy="349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вухкомпонентные распла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6480" y="5791320"/>
            <a:ext cx="3556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R.Xu, T. de Longe, W.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van der Lu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12788 (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560" y="762120"/>
            <a:ext cx="30168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W.F.Calaway, M.-L.Saboun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.Phys.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1213 (198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437920" y="1143000"/>
            <a:ext cx="1295640" cy="1522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51440" y="24620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a-P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84600" y="39099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b-P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2041560" cy="4671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362320" y="1295280"/>
            <a:ext cx="7617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49200" y="762120"/>
            <a:ext cx="11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cc"/>
                </a:solidFill>
                <a:latin typeface="Times New Roman"/>
              </a:rPr>
              <a:t>Подач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cc"/>
                </a:solidFill>
                <a:latin typeface="Times New Roman"/>
              </a:rPr>
              <a:t>метал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200400"/>
            <a:ext cx="1905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cc"/>
                </a:solidFill>
                <a:latin typeface="Times New Roman"/>
              </a:rPr>
              <a:t>Трубка и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cc"/>
                </a:solidFill>
                <a:latin typeface="Times New Roman"/>
              </a:rPr>
              <a:t>непроводяще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cc"/>
                </a:solidFill>
                <a:latin typeface="Times New Roman"/>
              </a:rPr>
              <a:t>матери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42120" y="1752480"/>
            <a:ext cx="125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cc"/>
                </a:solidFill>
                <a:latin typeface="Times New Roman"/>
              </a:rPr>
              <a:t>Шар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cc"/>
                </a:solidFill>
                <a:latin typeface="Times New Roman"/>
              </a:rPr>
              <a:t>кра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1981080"/>
            <a:ext cx="157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cc"/>
                </a:solidFill>
                <a:latin typeface="Times New Roman"/>
              </a:rPr>
              <a:t>К систем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cc"/>
                </a:solidFill>
                <a:latin typeface="Times New Roman"/>
              </a:rPr>
              <a:t>с инертны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cc"/>
                </a:solidFill>
                <a:latin typeface="Times New Roman"/>
              </a:rPr>
              <a:t>газ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2720" y="6324480"/>
            <a:ext cx="37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cc"/>
                </a:solidFill>
                <a:latin typeface="Times New Roman"/>
              </a:rPr>
              <a:t>Трубка из нержавеющей ста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99360" y="289548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 2, 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термопа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14240" y="3422520"/>
            <a:ext cx="3855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восемь контактов дл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транспортных измер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в обоих коленах труб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5943600"/>
            <a:ext cx="1143000" cy="457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2590920"/>
            <a:ext cx="7621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676520" y="2590560"/>
            <a:ext cx="1371600" cy="990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152280"/>
            <a:ext cx="4190760" cy="349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вухкомпонентные распла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27680" y="685800"/>
            <a:ext cx="391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Схема эксперимента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установ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3124080" y="2743200"/>
          <a:ext cx="5639040" cy="33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743200"/>
                    <a:ext cx="5639040" cy="33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28600" y="1752480"/>
            <a:ext cx="2819520" cy="2971800"/>
          </a:xfrm>
          <a:custGeom>
            <a:avLst/>
            <a:gdLst/>
            <a:ahLst/>
            <a:rect l="l" t="t" r="r" b="b"/>
            <a:pathLst>
              <a:path w="1440" h="1888">
                <a:moveTo>
                  <a:pt x="0" y="544"/>
                </a:moveTo>
                <a:cubicBezTo>
                  <a:pt x="168" y="620"/>
                  <a:pt x="336" y="696"/>
                  <a:pt x="432" y="640"/>
                </a:cubicBezTo>
                <a:cubicBezTo>
                  <a:pt x="528" y="584"/>
                  <a:pt x="520" y="0"/>
                  <a:pt x="576" y="208"/>
                </a:cubicBezTo>
                <a:cubicBezTo>
                  <a:pt x="632" y="416"/>
                  <a:pt x="696" y="1888"/>
                  <a:pt x="768" y="1888"/>
                </a:cubicBezTo>
                <a:cubicBezTo>
                  <a:pt x="840" y="1888"/>
                  <a:pt x="944" y="408"/>
                  <a:pt x="1008" y="208"/>
                </a:cubicBezTo>
                <a:cubicBezTo>
                  <a:pt x="1072" y="8"/>
                  <a:pt x="1080" y="624"/>
                  <a:pt x="1152" y="688"/>
                </a:cubicBezTo>
                <a:cubicBezTo>
                  <a:pt x="1224" y="752"/>
                  <a:pt x="1392" y="608"/>
                  <a:pt x="1440" y="59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41911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32767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8195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514600"/>
            <a:ext cx="838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362320"/>
            <a:ext cx="23623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7080" y="2084400"/>
            <a:ext cx="41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23480" y="5791320"/>
            <a:ext cx="249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Маленькие атом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щелочного метал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51040" y="6095880"/>
            <a:ext cx="21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Большие атом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8000" y="152280"/>
            <a:ext cx="73314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томные конфигурации ведут себя как квантовые я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838080"/>
            <a:ext cx="67820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Внутри </a:t>
            </a:r>
            <a:r>
              <a:rPr b="0" i="1" lang="en-US" sz="2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электронов, но только 1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  могут покинуть яму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Эффективная концентрация станови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вместо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2172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752480" y="1295280"/>
            <a:ext cx="990720" cy="1143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1371600"/>
            <a:ext cx="4800600" cy="914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57200" y="762120"/>
          <a:ext cx="31543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2120"/>
                    <a:ext cx="31543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267080" y="1905120"/>
          <a:ext cx="4267440" cy="30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905120"/>
                    <a:ext cx="426744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4648320" y="5410080"/>
            <a:ext cx="25459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F.Hen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.Phys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555 (197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12200" y="450720"/>
            <a:ext cx="11289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16760" y="41148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s-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58672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s-A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s-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f8mit" descr=""/>
          <p:cNvPicPr/>
          <p:nvPr/>
        </p:nvPicPr>
        <p:blipFill>
          <a:blip r:embed="rId1"/>
          <a:stretch/>
        </p:blipFill>
        <p:spPr>
          <a:xfrm>
            <a:off x="1139760" y="2852640"/>
            <a:ext cx="6632640" cy="184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1143000" y="949320"/>
          <a:ext cx="6553080" cy="176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949320"/>
                    <a:ext cx="655308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629400" y="1355760"/>
            <a:ext cx="1440" cy="107964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12120" y="197640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22200" y="10152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Модель Андерс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9680" y="5106960"/>
            <a:ext cx="7796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99"/>
                </a:solidFill>
                <a:latin typeface="Times New Roman"/>
              </a:rPr>
              <a:t>можно представлять себе, как периодический набор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99"/>
                </a:solidFill>
                <a:latin typeface="Times New Roman"/>
              </a:rPr>
              <a:t>одинаковых ям на фоне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99"/>
                </a:solidFill>
                <a:latin typeface="Times New Roman"/>
              </a:rPr>
              <a:t>длиннопериодного случайного потенциал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16:51:13Z</dcterms:created>
  <dc:creator>Gantmakher</dc:creator>
  <dc:description/>
  <dc:language>en-US</dc:language>
  <cp:lastModifiedBy>Gantmakher</cp:lastModifiedBy>
  <dcterms:modified xsi:type="dcterms:W3CDTF">2006-04-17T17:59:13Z</dcterms:modified>
  <cp:revision>32</cp:revision>
  <dc:subject/>
  <dc:title>Презентация PowerPoint</dc:title>
</cp:coreProperties>
</file>